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600" y="6966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B2D933-A1BE-4AF3-A4CA-17A197E5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3C24766-8BA0-40BB-89B3-FC5DF56C5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lossary that comes along with this set of modules. Each term in blue print in every module is defined in this glo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3EC77D-5D32-470B-8B2C-F8A668A5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488D3A-D603-4113-B6D8-BF1DEE6A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E35489-AA50-4AFD-9B38-F1FF26850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2C3C755-4E80-42CB-ACDB-6EFF028C6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8658323-26C3-49BD-88DD-6946DA646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9DF85B-F193-4FEA-8F41-98CFFF0CC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CA621B5-162D-4E20-B0F3-B1F07B0B9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6758CE1-13C3-43A1-A5E6-D082387C8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1F35571-040E-4EEB-BE3A-55976A0F1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is sculpting analogy, the modification step could be coloring the eye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3DA1EE-E32D-41AD-9C1C-491AF6B2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or may want to break this module into two lectures. There`s a lot of material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5A1-4520-4BF1-8BF0-D5BF7A54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1BE-76BA-46EE-BFC2-45A89EEA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544-8D7E-4117-B4C4-57C003F9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325-A672-4B36-8238-F2E25C93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E8E-2944-422C-A914-A2F45B21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40F-62B1-4372-BD4A-2DD23825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31B-BA11-4BE5-990E-7913E8F6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92B-6A72-408D-9410-E7922727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4EC-1F88-44A1-890B-F19BDEE1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51C-2BA8-47E1-9A4A-843415B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A33-313F-4123-A697-01A5DFA2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F3A-30E7-43CB-A0AC-70298AC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534000"/>
            <a:ext cx="5181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2434-DA72-4AC9-8E21-4735155C8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pattonbros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hyperlink" Target="http://www.matecnetworks.org/nano4me/glossary/glossary.html" TargetMode="External"/><Relationship Id="rId3" Type="http://schemas.openxmlformats.org/officeDocument/2006/relationships/hyperlink" Target="http://www.matecnetworks.org/nano4me/glossary/glossary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dx.doi.org/10.1039/DOI" TargetMode="External"/><Relationship Id="rId3" Type="http://schemas.openxmlformats.org/officeDocument/2006/relationships/hyperlink" Target="http://dx.doi.org/10.1039/DOI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ecnetworks.org/nano4me/glossary/glossary.html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66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troducción a la 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ódulo #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3352680" y="2895480"/>
          <a:ext cx="220680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895480"/>
                    <a:ext cx="220680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4"/>
          <p:cNvSpPr/>
          <p:nvPr/>
        </p:nvSpPr>
        <p:spPr>
          <a:xfrm>
            <a:off x="0" y="1219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ómo construimos cosas tan pequeñas: Nanofabricación de Abajo Hacia Arr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2120" y="5867640"/>
            <a:ext cx="74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nanotecnología está impactando todas las cos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209680" y="5257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atton brothers illustration (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pattonbro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7"/>
          <p:cNvSpPr/>
          <p:nvPr/>
        </p:nvSpPr>
        <p:spPr>
          <a:xfrm>
            <a:off x="1905120" y="6534000"/>
            <a:ext cx="51814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8"/>
          <p:cNvSpPr/>
          <p:nvPr/>
        </p:nvSpPr>
        <p:spPr>
          <a:xfrm>
            <a:off x="1752480" y="6153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Traducción: Prof. Carlos Luis Vicente Prado – University of Puerto Rico at Rio Pied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1447920" y="685800"/>
            <a:ext cx="6553080" cy="5029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581280" y="380880"/>
            <a:ext cx="1828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qu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505320" y="510552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 rot="4563600">
            <a:off x="5486040" y="5410080"/>
            <a:ext cx="38124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 rot="10078800">
            <a:off x="1294920" y="3504960"/>
            <a:ext cx="38124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 rot="14991000">
            <a:off x="3200400" y="685800"/>
            <a:ext cx="380880" cy="3808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 rot="19674600">
            <a:off x="7619760" y="2209320"/>
            <a:ext cx="380880" cy="3873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3276720" y="280980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Metodología de Fabricación de Abajo Hacia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4267080" y="6248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Así es que la nanofabricación de abajo hacia arriba se hace usual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loques de construcción (moléculas, partículas, capas) se fabr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bloques de construcción se auto ensamblan   formando una nanoestructura con alguna aplicación nano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La nanofabricación y el ensamblaje pueden ocurrir en un solo pa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secuencia se puede repetir muchas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nanoestructuras resultantes pueden residir en una solución, en una superficie o en un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y uso de litografía o pasos de grabado que dirijan donde va cada cosa; por eso se usa el termino “auto-ensamblaj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hora examinaremos algunos ejemplos de </a:t>
            </a:r>
            <a:r>
              <a:rPr b="0" lang="es-ES_tradnl" sz="4000" spc="-1" strike="noStrike" u="sng">
                <a:solidFill>
                  <a:srgbClr val="0000cc"/>
                </a:solidFill>
                <a:uFillTx/>
                <a:latin typeface="Arial"/>
              </a:rPr>
              <a:t>fabricación de bloques de construcción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4000" spc="-1" strike="noStrike" u="sng">
                <a:solidFill>
                  <a:srgbClr val="0000cc"/>
                </a:solidFill>
                <a:uFillTx/>
                <a:latin typeface="Arial"/>
              </a:rPr>
              <a:t>ensamblaj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50840"/>
            <a:ext cx="7086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Fabricación de Bloques de Constr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de los posibles métodos de fabricación de bloques de construcción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Síntesis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Química de Col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Procesos de Fabricació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Deposición Química en Fase Va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Síntesis Molecu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1981080" y="653400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3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oléculas Sintetizadas para Enlaza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965160" y="2649600"/>
          <a:ext cx="203220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649600"/>
                    <a:ext cx="20322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304920" y="54864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upo Rabo – seleccionado para unirse a materiales, partículas o moléculas específicas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581280" y="2895480"/>
            <a:ext cx="217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erpo de la moléc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glo atómic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esta molé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2520" y="1144440"/>
            <a:ext cx="8458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oléculas hechas con un grupo en la cola (bola verde) para darle funcionalidad; i.e., usado para determinar a que se unirá. El grupo cabeza (no se muestra) puede dictar a que se enlaza la molécula  por el otro extre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6486480" y="2014560"/>
            <a:ext cx="1410840" cy="3889080"/>
            <a:chOff x="6486480" y="2014560"/>
            <a:chExt cx="1410840" cy="3889080"/>
          </a:xfrm>
        </p:grpSpPr>
        <p:grpSp>
          <p:nvGrpSpPr>
            <p:cNvPr id="112" name="Group 9"/>
            <p:cNvGrpSpPr/>
            <p:nvPr/>
          </p:nvGrpSpPr>
          <p:grpSpPr>
            <a:xfrm>
              <a:off x="6486480" y="2014560"/>
              <a:ext cx="1410840" cy="3889080"/>
              <a:chOff x="6486480" y="2014560"/>
              <a:chExt cx="1410840" cy="3889080"/>
            </a:xfrm>
          </p:grpSpPr>
          <p:sp>
            <p:nvSpPr>
              <p:cNvPr id="113" name="Text Box 10"/>
              <p:cNvSpPr/>
              <p:nvPr/>
            </p:nvSpPr>
            <p:spPr>
              <a:xfrm>
                <a:off x="7164360" y="5443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1"/>
              <p:cNvSpPr/>
              <p:nvPr/>
            </p:nvSpPr>
            <p:spPr>
              <a:xfrm>
                <a:off x="6514920" y="515808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2"/>
              <p:cNvSpPr/>
              <p:nvPr/>
            </p:nvSpPr>
            <p:spPr>
              <a:xfrm>
                <a:off x="6494040" y="444348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3"/>
              <p:cNvSpPr/>
              <p:nvPr/>
            </p:nvSpPr>
            <p:spPr>
              <a:xfrm>
                <a:off x="7086240" y="48009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4"/>
              <p:cNvSpPr/>
              <p:nvPr/>
            </p:nvSpPr>
            <p:spPr>
              <a:xfrm>
                <a:off x="6486480" y="3871800"/>
                <a:ext cx="74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5"/>
              <p:cNvSpPr/>
              <p:nvPr/>
            </p:nvSpPr>
            <p:spPr>
              <a:xfrm>
                <a:off x="7170840" y="415800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6"/>
              <p:cNvSpPr/>
              <p:nvPr/>
            </p:nvSpPr>
            <p:spPr>
              <a:xfrm>
                <a:off x="7170840" y="35859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7"/>
              <p:cNvSpPr/>
              <p:nvPr/>
            </p:nvSpPr>
            <p:spPr>
              <a:xfrm>
                <a:off x="7170840" y="301464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8"/>
              <p:cNvSpPr/>
              <p:nvPr/>
            </p:nvSpPr>
            <p:spPr>
              <a:xfrm>
                <a:off x="6494040" y="33717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9"/>
              <p:cNvSpPr/>
              <p:nvPr/>
            </p:nvSpPr>
            <p:spPr>
              <a:xfrm>
                <a:off x="7170840" y="251424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20"/>
              <p:cNvSpPr/>
              <p:nvPr/>
            </p:nvSpPr>
            <p:spPr>
              <a:xfrm>
                <a:off x="6494040" y="280008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1"/>
              <p:cNvSpPr/>
              <p:nvPr/>
            </p:nvSpPr>
            <p:spPr>
              <a:xfrm>
                <a:off x="7086240" y="201456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22"/>
              <p:cNvSpPr/>
              <p:nvPr/>
            </p:nvSpPr>
            <p:spPr>
              <a:xfrm>
                <a:off x="6494040" y="2300040"/>
                <a:ext cx="726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23"/>
            <p:cNvSpPr/>
            <p:nvPr/>
          </p:nvSpPr>
          <p:spPr>
            <a:xfrm>
              <a:off x="7163280" y="551520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7163280" y="422928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 flipH="1">
              <a:off x="7162920" y="444348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>
              <a:off x="7163280" y="265752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7"/>
            <p:cNvSpPr/>
            <p:nvPr/>
          </p:nvSpPr>
          <p:spPr>
            <a:xfrm>
              <a:off x="7163280" y="315756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7163280" y="372888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7163280" y="480060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 flipH="1">
              <a:off x="7247880" y="3943440"/>
              <a:ext cx="8424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1"/>
            <p:cNvSpPr/>
            <p:nvPr/>
          </p:nvSpPr>
          <p:spPr>
            <a:xfrm flipH="1">
              <a:off x="7162920" y="337176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2"/>
            <p:cNvSpPr/>
            <p:nvPr/>
          </p:nvSpPr>
          <p:spPr>
            <a:xfrm flipH="1">
              <a:off x="7247880" y="2871720"/>
              <a:ext cx="8424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 flipH="1">
              <a:off x="7162920" y="5158080"/>
              <a:ext cx="84600" cy="7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 flipH="1">
              <a:off x="7077960" y="2300400"/>
              <a:ext cx="846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35"/>
          <p:cNvSpPr/>
          <p:nvPr/>
        </p:nvSpPr>
        <p:spPr>
          <a:xfrm>
            <a:off x="5105520" y="6019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el grupo sulfuro en la cola de la molécula de alkanethio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 flipH="1">
            <a:off x="2590920" y="3429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V="1">
            <a:off x="5257800" y="37335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990720" y="2009880"/>
          <a:ext cx="694188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09880"/>
                    <a:ext cx="694188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5"/>
          <p:cNvSpPr/>
          <p:nvPr/>
        </p:nvSpPr>
        <p:spPr>
          <a:xfrm>
            <a:off x="30492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íntesis de Macromoléculas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jemplo, un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dendrím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macromolécul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se sintetiza por medio de una serie de reacciones que crean capas  (Ver G1, G2, etc. abajo). Los dendrímeros pueden ser funcionalizados (en las Z) para formar enlaces y/o peg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90720" y="5029200"/>
            <a:ext cx="7086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95280" y="5621400"/>
            <a:ext cx="6705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rcializing Nanotechnolog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ATURE BIOTECHNOLOGY Volume 21, Number 10, October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990720" y="5638680"/>
            <a:ext cx="6858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295280" y="5697360"/>
            <a:ext cx="6705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rcializing Nanotechnology”, NATURE BIOTECHNOLOGY Volume 21, Number 10, October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Química Coloidal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química de solucion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895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ndo reacciones en solución, controladas cuidadosamente, es posible ensamblar átomos y moléculas usando química coloidal para formar nanopartíc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 es una gran manera de crear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nopartícula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anopartículas metálicas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untos cuántic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étodos de la química coloidal son los más comúnmente utilizados para producir nanopartículas, nano-aglomerados y puntos cuánticos en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grandes cantidades y a bajo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04920" y="35100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ste módulo es parte de una serie diseñada para ser utilizada por profesores de instituciones de educación superior en talleres y cursos  para introducir la nanotecnología y sus aplicaciones. No hay ningún significado particular para el sistema de número de mód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sa serie fue auspiciada en par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The National Science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Grant # DUE 0532646 and DUE 08024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The Pennsylvania Department of Community and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conomic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Grant # C000029471 and C0000366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Cualquier comentario, resultados y conclusiones o recomendaciones expresadas en este material son los del autor y no reflejan necesariamente las opiniones de la National Science Foundation o de “Pennsylvania Department of Community and Economic Develop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ced-global2"/>
          <p:cNvPicPr/>
          <p:nvPr/>
        </p:nvPicPr>
        <p:blipFill>
          <a:blip r:embed="rId1"/>
          <a:stretch/>
        </p:blipFill>
        <p:spPr>
          <a:xfrm>
            <a:off x="380880" y="5486400"/>
            <a:ext cx="2514600" cy="1087560"/>
          </a:xfrm>
          <a:prstGeom prst="rect">
            <a:avLst/>
          </a:prstGeom>
          <a:ln w="0">
            <a:noFill/>
          </a:ln>
        </p:spPr>
      </p:pic>
      <p:sp>
        <p:nvSpPr>
          <p:cNvPr id="58" name="Footer Placeholder 4"/>
          <p:cNvSpPr/>
          <p:nvPr/>
        </p:nvSpPr>
        <p:spPr>
          <a:xfrm>
            <a:off x="2666880" y="6620040"/>
            <a:ext cx="42674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NSF image.JPG"/>
          <p:cNvPicPr/>
          <p:nvPr/>
        </p:nvPicPr>
        <p:blipFill>
          <a:blip r:embed="rId2"/>
          <a:stretch/>
        </p:blipFill>
        <p:spPr>
          <a:xfrm>
            <a:off x="731520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914400" y="12193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procedimiento general envuelve reacciones químicas en soluciones acuosas o no acuosas que contienen sales disueltas o suspendidas, que son uno de los precursores. Una vez la solución se vuelve supersaturada con el producto de la reacción química que involucra los precursores, el precipitado (nanopartículas) comienza a formarse por nucleación y cre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600200" y="5105520"/>
            <a:ext cx="2286000" cy="9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1600200" y="4724280"/>
            <a:ext cx="2286000" cy="12956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440" h="816">
                <a:moveTo>
                  <a:pt x="0" y="0"/>
                </a:moveTo>
                <a:lnTo>
                  <a:pt x="0" y="816"/>
                </a:lnTo>
                <a:lnTo>
                  <a:pt x="1440" y="816"/>
                </a:lnTo>
                <a:lnTo>
                  <a:pt x="14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257800" y="5181480"/>
            <a:ext cx="2286000" cy="9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5257800" y="4800600"/>
            <a:ext cx="2286000" cy="12952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440" h="816">
                <a:moveTo>
                  <a:pt x="0" y="0"/>
                </a:moveTo>
                <a:lnTo>
                  <a:pt x="0" y="816"/>
                </a:lnTo>
                <a:lnTo>
                  <a:pt x="1440" y="816"/>
                </a:lnTo>
                <a:lnTo>
                  <a:pt x="14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0760" y="41148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pre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95360" y="41133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pre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1828800" y="5334120"/>
            <a:ext cx="175248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3c3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85200" y="58802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1"/>
          <p:cNvSpPr/>
          <p:nvPr/>
        </p:nvSpPr>
        <p:spPr>
          <a:xfrm>
            <a:off x="1981080" y="4343400"/>
            <a:ext cx="609840" cy="1295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384" h="816">
                <a:moveTo>
                  <a:pt x="0" y="0"/>
                </a:moveTo>
                <a:cubicBezTo>
                  <a:pt x="112" y="52"/>
                  <a:pt x="224" y="104"/>
                  <a:pt x="288" y="240"/>
                </a:cubicBezTo>
                <a:cubicBezTo>
                  <a:pt x="352" y="376"/>
                  <a:pt x="368" y="596"/>
                  <a:pt x="384" y="816"/>
                </a:cubicBezTo>
              </a:path>
            </a:pathLst>
          </a:custGeom>
          <a:noFill/>
          <a:ln w="507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"/>
          <p:cNvSpPr/>
          <p:nvPr/>
        </p:nvSpPr>
        <p:spPr>
          <a:xfrm>
            <a:off x="2819520" y="4343400"/>
            <a:ext cx="380880" cy="1219320"/>
          </a:xfrm>
          <a:custGeom>
            <a:avLst/>
            <a:gdLst>
              <a:gd name="textAreaLeft" fmla="*/ 0 w 380880"/>
              <a:gd name="textAreaRight" fmla="*/ 381240 w 380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40" h="768">
                <a:moveTo>
                  <a:pt x="240" y="0"/>
                </a:moveTo>
                <a:cubicBezTo>
                  <a:pt x="164" y="128"/>
                  <a:pt x="88" y="256"/>
                  <a:pt x="48" y="384"/>
                </a:cubicBezTo>
                <a:cubicBezTo>
                  <a:pt x="8" y="512"/>
                  <a:pt x="4" y="640"/>
                  <a:pt x="0" y="768"/>
                </a:cubicBezTo>
              </a:path>
            </a:pathLst>
          </a:custGeom>
          <a:noFill/>
          <a:ln w="507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213640" y="56386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1371600" y="57146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4343400" y="55627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248520" y="5638680"/>
            <a:ext cx="7596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6400800" y="5791320"/>
            <a:ext cx="76320" cy="75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6858000" y="563868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5715000" y="5791320"/>
            <a:ext cx="76320" cy="75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5715000" y="548640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1"/>
          <p:cNvSpPr/>
          <p:nvPr/>
        </p:nvSpPr>
        <p:spPr>
          <a:xfrm>
            <a:off x="7162920" y="5867280"/>
            <a:ext cx="7596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2"/>
          <p:cNvSpPr/>
          <p:nvPr/>
        </p:nvSpPr>
        <p:spPr>
          <a:xfrm>
            <a:off x="7086600" y="541008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6553080" y="548640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886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aturación de la solución y producción de nano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ímica Coloid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 flipH="1">
            <a:off x="579096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61722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rtesía de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"/>
          <p:cNvSpPr/>
          <p:nvPr/>
        </p:nvSpPr>
        <p:spPr>
          <a:xfrm>
            <a:off x="6202440" y="3009960"/>
            <a:ext cx="1904760" cy="19051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257800" y="5486400"/>
            <a:ext cx="359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thiophenolate hace que se forme una capa encapsulante que detiene el crecimiento y limita el tamaño de la nanopartícu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7017120" y="37720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92560" y="285768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 puntos cuanticos C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6126120" y="4921200"/>
            <a:ext cx="457200" cy="609480"/>
          </a:xfrm>
          <a:custGeom>
            <a:avLst/>
            <a:gdLst>
              <a:gd name="textAreaLeft" fmla="*/ 0 w 457200"/>
              <a:gd name="textAreaRight" fmla="*/ 457560 w 4572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88" h="384">
                <a:moveTo>
                  <a:pt x="0" y="384"/>
                </a:moveTo>
                <a:cubicBezTo>
                  <a:pt x="32" y="304"/>
                  <a:pt x="64" y="224"/>
                  <a:pt x="96" y="192"/>
                </a:cubicBezTo>
                <a:cubicBezTo>
                  <a:pt x="128" y="160"/>
                  <a:pt x="160" y="224"/>
                  <a:pt x="192" y="192"/>
                </a:cubicBezTo>
                <a:cubicBezTo>
                  <a:pt x="224" y="160"/>
                  <a:pt x="256" y="8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333760" y="45943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3808440" y="3505320"/>
            <a:ext cx="129528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9"/>
          <p:cNvSpPr/>
          <p:nvPr/>
        </p:nvSpPr>
        <p:spPr>
          <a:xfrm>
            <a:off x="3351240" y="3733920"/>
            <a:ext cx="1066680" cy="2286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72" h="144">
                <a:moveTo>
                  <a:pt x="0" y="0"/>
                </a:moveTo>
                <a:cubicBezTo>
                  <a:pt x="112" y="12"/>
                  <a:pt x="224" y="24"/>
                  <a:pt x="336" y="48"/>
                </a:cubicBezTo>
                <a:cubicBezTo>
                  <a:pt x="448" y="72"/>
                  <a:pt x="560" y="108"/>
                  <a:pt x="672" y="144"/>
                </a:cubicBezTo>
              </a:path>
            </a:pathLst>
          </a:custGeom>
          <a:noFill/>
          <a:ln w="507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819160" y="35593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"/>
          <p:cNvSpPr/>
          <p:nvPr/>
        </p:nvSpPr>
        <p:spPr>
          <a:xfrm>
            <a:off x="3351240" y="4419720"/>
            <a:ext cx="838080" cy="457200"/>
          </a:xfrm>
          <a:custGeom>
            <a:avLst/>
            <a:gdLst>
              <a:gd name="textAreaLeft" fmla="*/ 0 w 838080"/>
              <a:gd name="textAreaRight" fmla="*/ 83844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28" h="288">
                <a:moveTo>
                  <a:pt x="0" y="288"/>
                </a:moveTo>
                <a:cubicBezTo>
                  <a:pt x="124" y="288"/>
                  <a:pt x="248" y="288"/>
                  <a:pt x="336" y="240"/>
                </a:cubicBezTo>
                <a:cubicBezTo>
                  <a:pt x="424" y="192"/>
                  <a:pt x="476" y="96"/>
                  <a:pt x="528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972160" y="4702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4191120" y="40924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"/>
          <p:cNvSpPr/>
          <p:nvPr/>
        </p:nvSpPr>
        <p:spPr>
          <a:xfrm>
            <a:off x="5473800" y="4070520"/>
            <a:ext cx="660240" cy="533160"/>
          </a:xfrm>
          <a:custGeom>
            <a:avLst/>
            <a:gdLst>
              <a:gd name="textAreaLeft" fmla="*/ 0 w 660240"/>
              <a:gd name="textAreaRight" fmla="*/ 660600 w 660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416" h="336">
                <a:moveTo>
                  <a:pt x="144" y="336"/>
                </a:moveTo>
                <a:cubicBezTo>
                  <a:pt x="148" y="328"/>
                  <a:pt x="152" y="320"/>
                  <a:pt x="192" y="288"/>
                </a:cubicBezTo>
                <a:cubicBezTo>
                  <a:pt x="232" y="256"/>
                  <a:pt x="416" y="192"/>
                  <a:pt x="384" y="144"/>
                </a:cubicBezTo>
                <a:cubicBezTo>
                  <a:pt x="352" y="96"/>
                  <a:pt x="176" y="48"/>
                  <a:pt x="0" y="0"/>
                </a:cubicBezTo>
              </a:path>
            </a:pathLst>
          </a:custGeom>
          <a:noFill/>
          <a:ln w="507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5"/>
          <p:cNvSpPr/>
          <p:nvPr/>
        </p:nvSpPr>
        <p:spPr>
          <a:xfrm>
            <a:off x="7848720" y="4419720"/>
            <a:ext cx="998280" cy="1009440"/>
          </a:xfrm>
          <a:custGeom>
            <a:avLst/>
            <a:gdLst>
              <a:gd name="textAreaLeft" fmla="*/ 0 w 998280"/>
              <a:gd name="textAreaRight" fmla="*/ 998640 w 99828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272" h="432">
                <a:moveTo>
                  <a:pt x="80" y="432"/>
                </a:moveTo>
                <a:cubicBezTo>
                  <a:pt x="40" y="264"/>
                  <a:pt x="0" y="96"/>
                  <a:pt x="32" y="48"/>
                </a:cubicBezTo>
                <a:cubicBezTo>
                  <a:pt x="64" y="0"/>
                  <a:pt x="168" y="72"/>
                  <a:pt x="272" y="14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8002800" y="5006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838080" y="3581280"/>
            <a:ext cx="1752840" cy="228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Arial"/>
              </a:rPr>
              <a:t>El tamaño promedio de los racimos se puede controlar ajustando la razón de sulfito al thiophenolate añadido en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457200" y="2895480"/>
            <a:ext cx="83818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0"/>
          <p:cNvSpPr/>
          <p:nvPr/>
        </p:nvSpPr>
        <p:spPr>
          <a:xfrm>
            <a:off x="4159080" y="340344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1"/>
          <p:cNvSpPr/>
          <p:nvPr/>
        </p:nvSpPr>
        <p:spPr>
          <a:xfrm>
            <a:off x="4324320" y="3365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2"/>
          <p:cNvSpPr/>
          <p:nvPr/>
        </p:nvSpPr>
        <p:spPr>
          <a:xfrm>
            <a:off x="4000680" y="346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3"/>
          <p:cNvSpPr/>
          <p:nvPr/>
        </p:nvSpPr>
        <p:spPr>
          <a:xfrm>
            <a:off x="3657600" y="4083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4"/>
          <p:cNvSpPr/>
          <p:nvPr/>
        </p:nvSpPr>
        <p:spPr>
          <a:xfrm>
            <a:off x="3683160" y="42480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5"/>
          <p:cNvSpPr/>
          <p:nvPr/>
        </p:nvSpPr>
        <p:spPr>
          <a:xfrm>
            <a:off x="4178160" y="476244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6"/>
          <p:cNvSpPr/>
          <p:nvPr/>
        </p:nvSpPr>
        <p:spPr>
          <a:xfrm>
            <a:off x="4349880" y="4788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7"/>
          <p:cNvSpPr/>
          <p:nvPr/>
        </p:nvSpPr>
        <p:spPr>
          <a:xfrm>
            <a:off x="4527720" y="4756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8"/>
          <p:cNvSpPr/>
          <p:nvPr/>
        </p:nvSpPr>
        <p:spPr>
          <a:xfrm>
            <a:off x="7816680" y="45784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"/>
          <p:cNvSpPr/>
          <p:nvPr/>
        </p:nvSpPr>
        <p:spPr>
          <a:xfrm>
            <a:off x="4800600" y="3505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0"/>
          <p:cNvSpPr/>
          <p:nvPr/>
        </p:nvSpPr>
        <p:spPr>
          <a:xfrm>
            <a:off x="4927680" y="36194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1"/>
          <p:cNvSpPr/>
          <p:nvPr/>
        </p:nvSpPr>
        <p:spPr>
          <a:xfrm>
            <a:off x="5086440" y="3968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2"/>
          <p:cNvSpPr/>
          <p:nvPr/>
        </p:nvSpPr>
        <p:spPr>
          <a:xfrm>
            <a:off x="8026560" y="3537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3"/>
          <p:cNvSpPr/>
          <p:nvPr/>
        </p:nvSpPr>
        <p:spPr>
          <a:xfrm>
            <a:off x="49528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4"/>
          <p:cNvSpPr/>
          <p:nvPr/>
        </p:nvSpPr>
        <p:spPr>
          <a:xfrm>
            <a:off x="8070840" y="4083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5"/>
          <p:cNvSpPr/>
          <p:nvPr/>
        </p:nvSpPr>
        <p:spPr>
          <a:xfrm>
            <a:off x="6191280" y="3384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6"/>
          <p:cNvSpPr/>
          <p:nvPr/>
        </p:nvSpPr>
        <p:spPr>
          <a:xfrm>
            <a:off x="6419880" y="30988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7"/>
          <p:cNvSpPr/>
          <p:nvPr/>
        </p:nvSpPr>
        <p:spPr>
          <a:xfrm>
            <a:off x="7232760" y="28764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8"/>
          <p:cNvSpPr/>
          <p:nvPr/>
        </p:nvSpPr>
        <p:spPr>
          <a:xfrm>
            <a:off x="6114960" y="3537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9"/>
          <p:cNvSpPr/>
          <p:nvPr/>
        </p:nvSpPr>
        <p:spPr>
          <a:xfrm>
            <a:off x="6089760" y="37148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0"/>
          <p:cNvSpPr/>
          <p:nvPr/>
        </p:nvSpPr>
        <p:spPr>
          <a:xfrm>
            <a:off x="7048440" y="49021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1"/>
          <p:cNvSpPr/>
          <p:nvPr/>
        </p:nvSpPr>
        <p:spPr>
          <a:xfrm>
            <a:off x="6877080" y="287640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2"/>
          <p:cNvSpPr/>
          <p:nvPr/>
        </p:nvSpPr>
        <p:spPr>
          <a:xfrm>
            <a:off x="7956720" y="3365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3"/>
          <p:cNvSpPr/>
          <p:nvPr/>
        </p:nvSpPr>
        <p:spPr>
          <a:xfrm>
            <a:off x="7404120" y="29145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4"/>
          <p:cNvSpPr/>
          <p:nvPr/>
        </p:nvSpPr>
        <p:spPr>
          <a:xfrm>
            <a:off x="6718320" y="2927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5"/>
          <p:cNvSpPr/>
          <p:nvPr/>
        </p:nvSpPr>
        <p:spPr>
          <a:xfrm>
            <a:off x="7709040" y="30733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6"/>
          <p:cNvSpPr/>
          <p:nvPr/>
        </p:nvSpPr>
        <p:spPr>
          <a:xfrm>
            <a:off x="6426360" y="466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7"/>
          <p:cNvSpPr/>
          <p:nvPr/>
        </p:nvSpPr>
        <p:spPr>
          <a:xfrm>
            <a:off x="60642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8"/>
          <p:cNvSpPr/>
          <p:nvPr/>
        </p:nvSpPr>
        <p:spPr>
          <a:xfrm>
            <a:off x="7689960" y="4692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9"/>
          <p:cNvSpPr/>
          <p:nvPr/>
        </p:nvSpPr>
        <p:spPr>
          <a:xfrm>
            <a:off x="6292800" y="45338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0"/>
          <p:cNvSpPr/>
          <p:nvPr/>
        </p:nvSpPr>
        <p:spPr>
          <a:xfrm>
            <a:off x="6870600" y="488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1"/>
          <p:cNvSpPr/>
          <p:nvPr/>
        </p:nvSpPr>
        <p:spPr>
          <a:xfrm>
            <a:off x="6191280" y="4387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2"/>
          <p:cNvSpPr/>
          <p:nvPr/>
        </p:nvSpPr>
        <p:spPr>
          <a:xfrm>
            <a:off x="6559560" y="4768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3"/>
          <p:cNvSpPr/>
          <p:nvPr/>
        </p:nvSpPr>
        <p:spPr>
          <a:xfrm>
            <a:off x="7842240" y="32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4"/>
          <p:cNvSpPr/>
          <p:nvPr/>
        </p:nvSpPr>
        <p:spPr>
          <a:xfrm>
            <a:off x="6121440" y="4229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5"/>
          <p:cNvSpPr/>
          <p:nvPr/>
        </p:nvSpPr>
        <p:spPr>
          <a:xfrm>
            <a:off x="6711840" y="48387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6"/>
          <p:cNvSpPr/>
          <p:nvPr/>
        </p:nvSpPr>
        <p:spPr>
          <a:xfrm>
            <a:off x="6559560" y="2997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57"/>
          <p:cNvSpPr/>
          <p:nvPr/>
        </p:nvSpPr>
        <p:spPr>
          <a:xfrm>
            <a:off x="7397640" y="4851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8"/>
          <p:cNvSpPr/>
          <p:nvPr/>
        </p:nvSpPr>
        <p:spPr>
          <a:xfrm>
            <a:off x="6070680" y="40640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59"/>
          <p:cNvSpPr/>
          <p:nvPr/>
        </p:nvSpPr>
        <p:spPr>
          <a:xfrm>
            <a:off x="6292800" y="3232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0"/>
          <p:cNvSpPr/>
          <p:nvPr/>
        </p:nvSpPr>
        <p:spPr>
          <a:xfrm>
            <a:off x="7048440" y="2863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1"/>
          <p:cNvSpPr/>
          <p:nvPr/>
        </p:nvSpPr>
        <p:spPr>
          <a:xfrm>
            <a:off x="7562880" y="297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2"/>
          <p:cNvSpPr/>
          <p:nvPr/>
        </p:nvSpPr>
        <p:spPr>
          <a:xfrm>
            <a:off x="7226280" y="489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3"/>
          <p:cNvSpPr/>
          <p:nvPr/>
        </p:nvSpPr>
        <p:spPr>
          <a:xfrm>
            <a:off x="7556400" y="4788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4"/>
          <p:cNvSpPr/>
          <p:nvPr/>
        </p:nvSpPr>
        <p:spPr>
          <a:xfrm>
            <a:off x="801360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5"/>
          <p:cNvSpPr/>
          <p:nvPr/>
        </p:nvSpPr>
        <p:spPr>
          <a:xfrm>
            <a:off x="7924680" y="442584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6"/>
          <p:cNvSpPr/>
          <p:nvPr/>
        </p:nvSpPr>
        <p:spPr>
          <a:xfrm>
            <a:off x="8096400" y="3905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67"/>
          <p:cNvSpPr/>
          <p:nvPr/>
        </p:nvSpPr>
        <p:spPr>
          <a:xfrm>
            <a:off x="808344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8"/>
          <p:cNvSpPr/>
          <p:nvPr/>
        </p:nvSpPr>
        <p:spPr>
          <a:xfrm>
            <a:off x="23760" y="-152280"/>
            <a:ext cx="902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de crecimiento/tamaño de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80880" y="38088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producir puntos cuánticos de CdS mediante química de coloides,  una solución de cloruro de cadmio se reduce con sulfito de so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introducir en la solución moléculas que se adhieren a la superficie. Este tipo de moléculas encapsulantes se utilizan para controlar el tamaño de las nanopartícu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nanopartícula alcanza un tamaño específico, estas moléculas encapsulantes forman una capa estable que detiene el crecimiento 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9"/>
          <p:cNvSpPr/>
          <p:nvPr/>
        </p:nvSpPr>
        <p:spPr>
          <a:xfrm>
            <a:off x="471600" y="6213600"/>
            <a:ext cx="209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Mater. Sci. 1997, 32, 24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étodos Físic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362320" y="661032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480" y="759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étodos Físic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607320"/>
            <a:ext cx="883908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técnicas usadas para la producción de nanopartículas de metal o de óxido de metal usando métodos físicos incluyen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condensación de vapor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procesos mecán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moler o limar (grinding o milli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Condensación de va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Utilizando una atmósfera inerte para nanopartículas mecánicas o una atmósfera rica en oxígeno para nanopartículas de óxidos metálicos, es posible producir nanopartículas sólidas cuando el vapor metálico se condensa rápidamente.  La tasa de producción y el tamaño de las nanopartículas se puede controlar variando la temperatura, flujo de gas y tasa de producción de vap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ler o Limar (Grinding or Milling)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roducen nanopartículas reduciendo el tamaño por métodos mecánicos.  Las propiedades de las Nanopartículas que resultan dependen del material inicial, el tiempo de molido/limaje y el ambiente en que se lleva a cabo el proceso.  Este método ofrece un control limitado del tamaño de las nanopartículas resultantes al igual que tiene limitaciones en el control de contamin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osición Química en Fase Vap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1981080" y="653400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762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Arial"/>
              </a:rPr>
              <a:t>Un Ejemplo: Nanotubos de Carbón(NTC) creados por la descomposición de gas metano en catalista de nanopartículas de hierro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106960" cy="3905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1600200" y="6021360"/>
            <a:ext cx="594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bon nanotube films obtained by thermal chemical vapour depositio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Journal of Materials Chemistry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leg A. Nerushev , Martin Sveningsson , Lena K. L. Falk and Frank Rohmund. March 2001. 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dx.doi.org/10.1039/</a:t>
            </a:r>
            <a:r>
              <a:rPr b="0" lang="en-GB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DOI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Reproduced by permission of The Royal Society of Chem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ro Ejemplo: nanohilos de silicón producidos por deposición química en fase vapor usando el mecanismo Vapor-Liquido-Sólido (V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457200" y="5715000"/>
            <a:ext cx="426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La nanopartícula de oro se vuelve supersaturada con Si que a su vez se precipita en un nanohilo sólido (verde en la fig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990720" y="289548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Las nanopartículas de Oro (Au) se colocan en el sus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419720" y="2819520"/>
            <a:ext cx="47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s nanopartículas actúan como un catalista liberando el  silicón (Si) de su precursor (fuente). El Si entonces se disuelve en el o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029200" y="57150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diámetro del nanohilo de Si (SiNW) es determinado por el tamaño de la nanopartícula de A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7315200" y="64008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5"/>
          <p:cNvGrpSpPr/>
          <p:nvPr/>
        </p:nvGrpSpPr>
        <p:grpSpPr>
          <a:xfrm>
            <a:off x="992160" y="1216080"/>
            <a:ext cx="2741760" cy="1679400"/>
            <a:chOff x="992160" y="1216080"/>
            <a:chExt cx="2741760" cy="1679400"/>
          </a:xfrm>
        </p:grpSpPr>
        <p:sp>
          <p:nvSpPr>
            <p:cNvPr id="269" name="AutoShape 14"/>
            <p:cNvSpPr/>
            <p:nvPr/>
          </p:nvSpPr>
          <p:spPr>
            <a:xfrm>
              <a:off x="992160" y="1216080"/>
              <a:ext cx="274176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18"/>
            <p:cNvGrpSpPr/>
            <p:nvPr/>
          </p:nvGrpSpPr>
          <p:grpSpPr>
            <a:xfrm>
              <a:off x="2093760" y="2122560"/>
              <a:ext cx="449280" cy="376200"/>
              <a:chOff x="2093760" y="2122560"/>
              <a:chExt cx="449280" cy="376200"/>
            </a:xfrm>
          </p:grpSpPr>
          <p:sp>
            <p:nvSpPr>
              <p:cNvPr id="271" name="Oval 16"/>
              <p:cNvSpPr/>
              <p:nvPr/>
            </p:nvSpPr>
            <p:spPr>
              <a:xfrm>
                <a:off x="2093760" y="2122560"/>
                <a:ext cx="449280" cy="37620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>
                <a:off x="2093760" y="2122560"/>
                <a:ext cx="449280" cy="376200"/>
              </a:xfrm>
              <a:custGeom>
                <a:avLst/>
                <a:gdLst/>
                <a:ahLst/>
                <a:rect l="l" t="t" r="r" b="b"/>
                <a:pathLst>
                  <a:path w="283" h="237">
                    <a:moveTo>
                      <a:pt x="141" y="0"/>
                    </a:moveTo>
                    <a:cubicBezTo>
                      <a:pt x="63" y="0"/>
                      <a:pt x="0" y="54"/>
                      <a:pt x="0" y="118"/>
                    </a:cubicBezTo>
                    <a:cubicBezTo>
                      <a:pt x="0" y="184"/>
                      <a:pt x="63" y="237"/>
                      <a:pt x="141" y="237"/>
                    </a:cubicBezTo>
                    <a:cubicBezTo>
                      <a:pt x="220" y="237"/>
                      <a:pt x="283" y="184"/>
                      <a:pt x="283" y="118"/>
                    </a:cubicBezTo>
                    <a:cubicBezTo>
                      <a:pt x="283" y="54"/>
                      <a:pt x="220" y="0"/>
                      <a:pt x="141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1030320" y="2333520"/>
              <a:ext cx="2560680" cy="540000"/>
              <a:chOff x="1030320" y="2333520"/>
              <a:chExt cx="2560680" cy="540000"/>
            </a:xfrm>
          </p:grpSpPr>
          <p:sp>
            <p:nvSpPr>
              <p:cNvPr id="274" name="Rectangle 19"/>
              <p:cNvSpPr/>
              <p:nvPr/>
            </p:nvSpPr>
            <p:spPr>
              <a:xfrm>
                <a:off x="1030320" y="2333520"/>
                <a:ext cx="2560680" cy="540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20"/>
              <p:cNvSpPr/>
              <p:nvPr/>
            </p:nvSpPr>
            <p:spPr>
              <a:xfrm>
                <a:off x="1030320" y="2333520"/>
                <a:ext cx="2560680" cy="54000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22"/>
            <p:cNvSpPr/>
            <p:nvPr/>
          </p:nvSpPr>
          <p:spPr>
            <a:xfrm>
              <a:off x="2325600" y="2355840"/>
              <a:ext cx="10476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3"/>
            <p:cNvSpPr/>
            <p:nvPr/>
          </p:nvSpPr>
          <p:spPr>
            <a:xfrm>
              <a:off x="2325600" y="2355840"/>
              <a:ext cx="10476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4"/>
            <p:cNvSpPr/>
            <p:nvPr/>
          </p:nvSpPr>
          <p:spPr>
            <a:xfrm>
              <a:off x="1908000" y="2590920"/>
              <a:ext cx="77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31"/>
            <p:cNvGrpSpPr/>
            <p:nvPr/>
          </p:nvGrpSpPr>
          <p:grpSpPr>
            <a:xfrm>
              <a:off x="1179360" y="1523880"/>
              <a:ext cx="868680" cy="209520"/>
              <a:chOff x="1179360" y="1523880"/>
              <a:chExt cx="868680" cy="209520"/>
            </a:xfrm>
          </p:grpSpPr>
          <p:sp>
            <p:nvSpPr>
              <p:cNvPr id="280" name="Freeform 25"/>
              <p:cNvSpPr/>
              <p:nvPr/>
            </p:nvSpPr>
            <p:spPr>
              <a:xfrm>
                <a:off x="1314360" y="1523880"/>
                <a:ext cx="733680" cy="209520"/>
              </a:xfrm>
              <a:custGeom>
                <a:avLst/>
                <a:gdLst/>
                <a:ahLst/>
                <a:rect l="l" t="t" r="r" b="b"/>
                <a:pathLst>
                  <a:path w="462" h="132">
                    <a:moveTo>
                      <a:pt x="325" y="0"/>
                    </a:moveTo>
                    <a:lnTo>
                      <a:pt x="325" y="33"/>
                    </a:lnTo>
                    <a:lnTo>
                      <a:pt x="0" y="33"/>
                    </a:lnTo>
                    <a:lnTo>
                      <a:pt x="0" y="99"/>
                    </a:lnTo>
                    <a:lnTo>
                      <a:pt x="325" y="99"/>
                    </a:lnTo>
                    <a:lnTo>
                      <a:pt x="325" y="132"/>
                    </a:lnTo>
                    <a:lnTo>
                      <a:pt x="462" y="66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6"/>
              <p:cNvSpPr/>
              <p:nvPr/>
            </p:nvSpPr>
            <p:spPr>
              <a:xfrm>
                <a:off x="1233360" y="1576440"/>
                <a:ext cx="5400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7"/>
              <p:cNvSpPr/>
              <p:nvPr/>
            </p:nvSpPr>
            <p:spPr>
              <a:xfrm>
                <a:off x="1179360" y="1576440"/>
                <a:ext cx="2700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8"/>
              <p:cNvSpPr/>
              <p:nvPr/>
            </p:nvSpPr>
            <p:spPr>
              <a:xfrm>
                <a:off x="1314360" y="1523880"/>
                <a:ext cx="733680" cy="209520"/>
              </a:xfrm>
              <a:custGeom>
                <a:avLst/>
                <a:gdLst/>
                <a:ahLst/>
                <a:rect l="l" t="t" r="r" b="b"/>
                <a:pathLst>
                  <a:path w="462" h="132">
                    <a:moveTo>
                      <a:pt x="325" y="0"/>
                    </a:moveTo>
                    <a:lnTo>
                      <a:pt x="325" y="33"/>
                    </a:lnTo>
                    <a:lnTo>
                      <a:pt x="0" y="33"/>
                    </a:lnTo>
                    <a:lnTo>
                      <a:pt x="0" y="99"/>
                    </a:lnTo>
                    <a:lnTo>
                      <a:pt x="325" y="99"/>
                    </a:lnTo>
                    <a:lnTo>
                      <a:pt x="325" y="132"/>
                    </a:lnTo>
                    <a:lnTo>
                      <a:pt x="462" y="66"/>
                    </a:lnTo>
                    <a:lnTo>
                      <a:pt x="325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29"/>
              <p:cNvSpPr/>
              <p:nvPr/>
            </p:nvSpPr>
            <p:spPr>
              <a:xfrm>
                <a:off x="1233360" y="1576440"/>
                <a:ext cx="54000" cy="1047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0"/>
              <p:cNvSpPr/>
              <p:nvPr/>
            </p:nvSpPr>
            <p:spPr>
              <a:xfrm>
                <a:off x="1179360" y="1576440"/>
                <a:ext cx="27000" cy="10476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Freeform 32"/>
            <p:cNvSpPr/>
            <p:nvPr/>
          </p:nvSpPr>
          <p:spPr>
            <a:xfrm>
              <a:off x="2347920" y="1935000"/>
              <a:ext cx="384120" cy="293760"/>
            </a:xfrm>
            <a:custGeom>
              <a:avLst/>
              <a:gdLst/>
              <a:ahLst/>
              <a:rect l="l" t="t" r="r" b="b"/>
              <a:pathLst>
                <a:path w="410" h="313">
                  <a:moveTo>
                    <a:pt x="405" y="16"/>
                  </a:moveTo>
                  <a:lnTo>
                    <a:pt x="48" y="288"/>
                  </a:lnTo>
                  <a:cubicBezTo>
                    <a:pt x="44" y="290"/>
                    <a:pt x="39" y="290"/>
                    <a:pt x="37" y="286"/>
                  </a:cubicBezTo>
                  <a:cubicBezTo>
                    <a:pt x="34" y="283"/>
                    <a:pt x="35" y="278"/>
                    <a:pt x="38" y="275"/>
                  </a:cubicBezTo>
                  <a:lnTo>
                    <a:pt x="396" y="3"/>
                  </a:lnTo>
                  <a:cubicBezTo>
                    <a:pt x="399" y="0"/>
                    <a:pt x="404" y="1"/>
                    <a:pt x="407" y="5"/>
                  </a:cubicBezTo>
                  <a:cubicBezTo>
                    <a:pt x="410" y="8"/>
                    <a:pt x="409" y="13"/>
                    <a:pt x="405" y="16"/>
                  </a:cubicBezTo>
                  <a:close/>
                  <a:moveTo>
                    <a:pt x="141" y="287"/>
                  </a:moveTo>
                  <a:lnTo>
                    <a:pt x="0" y="313"/>
                  </a:lnTo>
                  <a:lnTo>
                    <a:pt x="64" y="185"/>
                  </a:lnTo>
                  <a:lnTo>
                    <a:pt x="14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3"/>
            <p:cNvSpPr/>
            <p:nvPr/>
          </p:nvSpPr>
          <p:spPr>
            <a:xfrm>
              <a:off x="2628720" y="1695600"/>
              <a:ext cx="107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u catalis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4"/>
            <p:cNvSpPr/>
            <p:nvPr/>
          </p:nvSpPr>
          <p:spPr>
            <a:xfrm>
              <a:off x="1041480" y="123048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lujo de gas con S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7"/>
          <p:cNvGrpSpPr/>
          <p:nvPr/>
        </p:nvGrpSpPr>
        <p:grpSpPr>
          <a:xfrm>
            <a:off x="5105520" y="1295280"/>
            <a:ext cx="2741400" cy="1552680"/>
            <a:chOff x="5105520" y="1295280"/>
            <a:chExt cx="2741400" cy="1552680"/>
          </a:xfrm>
        </p:grpSpPr>
        <p:sp>
          <p:nvSpPr>
            <p:cNvPr id="290" name="AutoShape 36"/>
            <p:cNvSpPr/>
            <p:nvPr/>
          </p:nvSpPr>
          <p:spPr>
            <a:xfrm>
              <a:off x="5105520" y="1295280"/>
              <a:ext cx="274140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40"/>
            <p:cNvGrpSpPr/>
            <p:nvPr/>
          </p:nvGrpSpPr>
          <p:grpSpPr>
            <a:xfrm>
              <a:off x="6238800" y="2031840"/>
              <a:ext cx="474840" cy="397080"/>
              <a:chOff x="6238800" y="2031840"/>
              <a:chExt cx="474840" cy="397080"/>
            </a:xfrm>
          </p:grpSpPr>
          <p:sp>
            <p:nvSpPr>
              <p:cNvPr id="292" name="Oval 38"/>
              <p:cNvSpPr/>
              <p:nvPr/>
            </p:nvSpPr>
            <p:spPr>
              <a:xfrm>
                <a:off x="6238800" y="2031840"/>
                <a:ext cx="474840" cy="397080"/>
              </a:xfrm>
              <a:prstGeom prst="ellipse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9"/>
              <p:cNvSpPr/>
              <p:nvPr/>
            </p:nvSpPr>
            <p:spPr>
              <a:xfrm>
                <a:off x="6238800" y="2031840"/>
                <a:ext cx="474840" cy="39708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43"/>
            <p:cNvGrpSpPr/>
            <p:nvPr/>
          </p:nvGrpSpPr>
          <p:grpSpPr>
            <a:xfrm>
              <a:off x="5113440" y="2254320"/>
              <a:ext cx="2709720" cy="569880"/>
              <a:chOff x="5113440" y="2254320"/>
              <a:chExt cx="2709720" cy="569880"/>
            </a:xfrm>
          </p:grpSpPr>
          <p:sp>
            <p:nvSpPr>
              <p:cNvPr id="295" name="Rectangle 41"/>
              <p:cNvSpPr/>
              <p:nvPr/>
            </p:nvSpPr>
            <p:spPr>
              <a:xfrm>
                <a:off x="5113440" y="2254320"/>
                <a:ext cx="2709720" cy="569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2"/>
              <p:cNvSpPr/>
              <p:nvPr/>
            </p:nvSpPr>
            <p:spPr>
              <a:xfrm>
                <a:off x="5113440" y="2254320"/>
                <a:ext cx="2709720" cy="56988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44"/>
            <p:cNvSpPr/>
            <p:nvPr/>
          </p:nvSpPr>
          <p:spPr>
            <a:xfrm>
              <a:off x="6483240" y="227808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>
              <a:off x="6483240" y="227808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6"/>
            <p:cNvSpPr/>
            <p:nvPr/>
          </p:nvSpPr>
          <p:spPr>
            <a:xfrm>
              <a:off x="6048360" y="251460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49"/>
            <p:cNvGrpSpPr/>
            <p:nvPr/>
          </p:nvGrpSpPr>
          <p:grpSpPr>
            <a:xfrm>
              <a:off x="6000840" y="1604880"/>
              <a:ext cx="63360" cy="61920"/>
              <a:chOff x="6000840" y="1604880"/>
              <a:chExt cx="63360" cy="61920"/>
            </a:xfrm>
          </p:grpSpPr>
          <p:sp>
            <p:nvSpPr>
              <p:cNvPr id="301" name="Oval 47"/>
              <p:cNvSpPr/>
              <p:nvPr/>
            </p:nvSpPr>
            <p:spPr>
              <a:xfrm>
                <a:off x="6000840" y="1604880"/>
                <a:ext cx="63360" cy="619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8"/>
              <p:cNvSpPr/>
              <p:nvPr/>
            </p:nvSpPr>
            <p:spPr>
              <a:xfrm>
                <a:off x="6000840" y="160488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20" y="0"/>
                    </a:moveTo>
                    <a:cubicBezTo>
                      <a:pt x="9" y="0"/>
                      <a:pt x="0" y="9"/>
                      <a:pt x="0" y="19"/>
                    </a:cubicBezTo>
                    <a:cubicBezTo>
                      <a:pt x="0" y="31"/>
                      <a:pt x="9" y="39"/>
                      <a:pt x="20" y="39"/>
                    </a:cubicBezTo>
                    <a:cubicBezTo>
                      <a:pt x="31" y="39"/>
                      <a:pt x="40" y="31"/>
                      <a:pt x="40" y="19"/>
                    </a:cubicBezTo>
                    <a:cubicBezTo>
                      <a:pt x="40" y="9"/>
                      <a:pt x="31" y="0"/>
                      <a:pt x="20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6200" bIns="162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52"/>
            <p:cNvGrpSpPr/>
            <p:nvPr/>
          </p:nvGrpSpPr>
          <p:grpSpPr>
            <a:xfrm>
              <a:off x="6381720" y="1303200"/>
              <a:ext cx="63360" cy="63720"/>
              <a:chOff x="6381720" y="1303200"/>
              <a:chExt cx="63360" cy="63720"/>
            </a:xfrm>
          </p:grpSpPr>
          <p:sp>
            <p:nvSpPr>
              <p:cNvPr id="304" name="Oval 50"/>
              <p:cNvSpPr/>
              <p:nvPr/>
            </p:nvSpPr>
            <p:spPr>
              <a:xfrm>
                <a:off x="6381720" y="130320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51"/>
              <p:cNvSpPr/>
              <p:nvPr/>
            </p:nvSpPr>
            <p:spPr>
              <a:xfrm>
                <a:off x="6381720" y="1303200"/>
                <a:ext cx="61920" cy="637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55"/>
            <p:cNvGrpSpPr/>
            <p:nvPr/>
          </p:nvGrpSpPr>
          <p:grpSpPr>
            <a:xfrm>
              <a:off x="6397560" y="1635120"/>
              <a:ext cx="61920" cy="63360"/>
              <a:chOff x="6397560" y="1635120"/>
              <a:chExt cx="61920" cy="63360"/>
            </a:xfrm>
          </p:grpSpPr>
          <p:sp>
            <p:nvSpPr>
              <p:cNvPr id="307" name="Oval 53"/>
              <p:cNvSpPr/>
              <p:nvPr/>
            </p:nvSpPr>
            <p:spPr>
              <a:xfrm>
                <a:off x="6397560" y="1635120"/>
                <a:ext cx="619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54"/>
              <p:cNvSpPr/>
              <p:nvPr/>
            </p:nvSpPr>
            <p:spPr>
              <a:xfrm>
                <a:off x="6397560" y="163512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cubicBezTo>
                      <a:pt x="9" y="0"/>
                      <a:pt x="0" y="10"/>
                      <a:pt x="0" y="20"/>
                    </a:cubicBezTo>
                    <a:cubicBezTo>
                      <a:pt x="0" y="32"/>
                      <a:pt x="9" y="40"/>
                      <a:pt x="19" y="40"/>
                    </a:cubicBezTo>
                    <a:cubicBezTo>
                      <a:pt x="31" y="40"/>
                      <a:pt x="39" y="32"/>
                      <a:pt x="39" y="20"/>
                    </a:cubicBezTo>
                    <a:cubicBezTo>
                      <a:pt x="39" y="10"/>
                      <a:pt x="31" y="0"/>
                      <a:pt x="19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58"/>
            <p:cNvGrpSpPr/>
            <p:nvPr/>
          </p:nvGrpSpPr>
          <p:grpSpPr>
            <a:xfrm>
              <a:off x="5889600" y="1841400"/>
              <a:ext cx="63360" cy="63720"/>
              <a:chOff x="5889600" y="1841400"/>
              <a:chExt cx="63360" cy="63720"/>
            </a:xfrm>
          </p:grpSpPr>
          <p:sp>
            <p:nvSpPr>
              <p:cNvPr id="310" name="Oval 56"/>
              <p:cNvSpPr/>
              <p:nvPr/>
            </p:nvSpPr>
            <p:spPr>
              <a:xfrm>
                <a:off x="5889600" y="184140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57"/>
              <p:cNvSpPr/>
              <p:nvPr/>
            </p:nvSpPr>
            <p:spPr>
              <a:xfrm>
                <a:off x="5889600" y="1841400"/>
                <a:ext cx="63360" cy="637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64"/>
            <p:cNvGrpSpPr/>
            <p:nvPr/>
          </p:nvGrpSpPr>
          <p:grpSpPr>
            <a:xfrm>
              <a:off x="6967440" y="1809720"/>
              <a:ext cx="63720" cy="63360"/>
              <a:chOff x="6967440" y="1809720"/>
              <a:chExt cx="63720" cy="63360"/>
            </a:xfrm>
          </p:grpSpPr>
          <p:sp>
            <p:nvSpPr>
              <p:cNvPr id="313" name="Oval 62"/>
              <p:cNvSpPr/>
              <p:nvPr/>
            </p:nvSpPr>
            <p:spPr>
              <a:xfrm>
                <a:off x="6967440" y="180972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63"/>
              <p:cNvSpPr/>
              <p:nvPr/>
            </p:nvSpPr>
            <p:spPr>
              <a:xfrm>
                <a:off x="6967440" y="180972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7"/>
            <p:cNvGrpSpPr/>
            <p:nvPr/>
          </p:nvGrpSpPr>
          <p:grpSpPr>
            <a:xfrm>
              <a:off x="6681960" y="1557360"/>
              <a:ext cx="63360" cy="63360"/>
              <a:chOff x="6681960" y="1557360"/>
              <a:chExt cx="63360" cy="63360"/>
            </a:xfrm>
          </p:grpSpPr>
          <p:sp>
            <p:nvSpPr>
              <p:cNvPr id="316" name="Oval 65"/>
              <p:cNvSpPr/>
              <p:nvPr/>
            </p:nvSpPr>
            <p:spPr>
              <a:xfrm>
                <a:off x="6681960" y="155736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66"/>
              <p:cNvSpPr/>
              <p:nvPr/>
            </p:nvSpPr>
            <p:spPr>
              <a:xfrm>
                <a:off x="6681960" y="1557360"/>
                <a:ext cx="63360" cy="619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68"/>
            <p:cNvSpPr/>
            <p:nvPr/>
          </p:nvSpPr>
          <p:spPr>
            <a:xfrm>
              <a:off x="6365880" y="1738440"/>
              <a:ext cx="125280" cy="24588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9"/>
            <p:cNvSpPr/>
            <p:nvPr/>
          </p:nvSpPr>
          <p:spPr>
            <a:xfrm>
              <a:off x="5991120" y="1913040"/>
              <a:ext cx="263520" cy="166680"/>
            </a:xfrm>
            <a:custGeom>
              <a:avLst/>
              <a:gdLst/>
              <a:ahLst/>
              <a:rect l="l" t="t" r="r" b="b"/>
              <a:pathLst>
                <a:path w="265" h="169">
                  <a:moveTo>
                    <a:pt x="14" y="3"/>
                  </a:moveTo>
                  <a:lnTo>
                    <a:pt x="224" y="134"/>
                  </a:lnTo>
                  <a:cubicBezTo>
                    <a:pt x="228" y="137"/>
                    <a:pt x="229" y="142"/>
                    <a:pt x="227" y="145"/>
                  </a:cubicBezTo>
                  <a:cubicBezTo>
                    <a:pt x="225" y="149"/>
                    <a:pt x="220" y="150"/>
                    <a:pt x="216" y="148"/>
                  </a:cubicBezTo>
                  <a:lnTo>
                    <a:pt x="5" y="16"/>
                  </a:lnTo>
                  <a:cubicBezTo>
                    <a:pt x="1" y="14"/>
                    <a:pt x="0" y="9"/>
                    <a:pt x="3" y="5"/>
                  </a:cubicBezTo>
                  <a:cubicBezTo>
                    <a:pt x="5" y="1"/>
                    <a:pt x="10" y="0"/>
                    <a:pt x="14" y="3"/>
                  </a:cubicBezTo>
                  <a:close/>
                  <a:moveTo>
                    <a:pt x="191" y="47"/>
                  </a:moveTo>
                  <a:lnTo>
                    <a:pt x="265" y="169"/>
                  </a:lnTo>
                  <a:lnTo>
                    <a:pt x="123" y="156"/>
                  </a:lnTo>
                  <a:lnTo>
                    <a:pt x="19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0"/>
            <p:cNvSpPr/>
            <p:nvPr/>
          </p:nvSpPr>
          <p:spPr>
            <a:xfrm>
              <a:off x="6665760" y="1881360"/>
              <a:ext cx="247680" cy="198360"/>
            </a:xfrm>
            <a:custGeom>
              <a:avLst/>
              <a:gdLst/>
              <a:ahLst/>
              <a:rect l="l" t="t" r="r" b="b"/>
              <a:pathLst>
                <a:path w="249" h="201">
                  <a:moveTo>
                    <a:pt x="245" y="16"/>
                  </a:moveTo>
                  <a:lnTo>
                    <a:pt x="47" y="174"/>
                  </a:lnTo>
                  <a:cubicBezTo>
                    <a:pt x="44" y="177"/>
                    <a:pt x="39" y="177"/>
                    <a:pt x="36" y="173"/>
                  </a:cubicBezTo>
                  <a:cubicBezTo>
                    <a:pt x="33" y="170"/>
                    <a:pt x="34" y="165"/>
                    <a:pt x="37" y="162"/>
                  </a:cubicBezTo>
                  <a:lnTo>
                    <a:pt x="235" y="3"/>
                  </a:lnTo>
                  <a:cubicBezTo>
                    <a:pt x="239" y="0"/>
                    <a:pt x="244" y="1"/>
                    <a:pt x="247" y="4"/>
                  </a:cubicBezTo>
                  <a:cubicBezTo>
                    <a:pt x="249" y="8"/>
                    <a:pt x="249" y="13"/>
                    <a:pt x="245" y="16"/>
                  </a:cubicBezTo>
                  <a:close/>
                  <a:moveTo>
                    <a:pt x="140" y="171"/>
                  </a:moveTo>
                  <a:lnTo>
                    <a:pt x="0" y="201"/>
                  </a:lnTo>
                  <a:lnTo>
                    <a:pt x="60" y="72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73"/>
            <p:cNvGrpSpPr/>
            <p:nvPr/>
          </p:nvGrpSpPr>
          <p:grpSpPr>
            <a:xfrm>
              <a:off x="6983280" y="1525680"/>
              <a:ext cx="63720" cy="63360"/>
              <a:chOff x="6983280" y="1525680"/>
              <a:chExt cx="63720" cy="63360"/>
            </a:xfrm>
          </p:grpSpPr>
          <p:sp>
            <p:nvSpPr>
              <p:cNvPr id="322" name="Oval 71"/>
              <p:cNvSpPr/>
              <p:nvPr/>
            </p:nvSpPr>
            <p:spPr>
              <a:xfrm>
                <a:off x="6983280" y="152568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72"/>
              <p:cNvSpPr/>
              <p:nvPr/>
            </p:nvSpPr>
            <p:spPr>
              <a:xfrm>
                <a:off x="6983280" y="152568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Rectangle 74"/>
            <p:cNvSpPr/>
            <p:nvPr/>
          </p:nvSpPr>
          <p:spPr>
            <a:xfrm>
              <a:off x="5689800" y="14860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77"/>
          <p:cNvGrpSpPr/>
          <p:nvPr/>
        </p:nvGrpSpPr>
        <p:grpSpPr>
          <a:xfrm>
            <a:off x="1143000" y="3657600"/>
            <a:ext cx="2741760" cy="2071800"/>
            <a:chOff x="1143000" y="3657600"/>
            <a:chExt cx="2741760" cy="2071800"/>
          </a:xfrm>
        </p:grpSpPr>
        <p:sp>
          <p:nvSpPr>
            <p:cNvPr id="326" name="AutoShape 76"/>
            <p:cNvSpPr/>
            <p:nvPr/>
          </p:nvSpPr>
          <p:spPr>
            <a:xfrm>
              <a:off x="1143000" y="3657600"/>
              <a:ext cx="274176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80"/>
            <p:cNvGrpSpPr/>
            <p:nvPr/>
          </p:nvGrpSpPr>
          <p:grpSpPr>
            <a:xfrm>
              <a:off x="2260440" y="4376880"/>
              <a:ext cx="474840" cy="395280"/>
              <a:chOff x="2260440" y="4376880"/>
              <a:chExt cx="474840" cy="395280"/>
            </a:xfrm>
          </p:grpSpPr>
          <p:sp>
            <p:nvSpPr>
              <p:cNvPr id="328" name="Oval 78"/>
              <p:cNvSpPr/>
              <p:nvPr/>
            </p:nvSpPr>
            <p:spPr>
              <a:xfrm>
                <a:off x="2260440" y="4376880"/>
                <a:ext cx="474840" cy="395280"/>
              </a:xfrm>
              <a:prstGeom prst="ellipse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79"/>
              <p:cNvSpPr/>
              <p:nvPr/>
            </p:nvSpPr>
            <p:spPr>
              <a:xfrm>
                <a:off x="2260440" y="4376880"/>
                <a:ext cx="474840" cy="39528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83"/>
            <p:cNvGrpSpPr/>
            <p:nvPr/>
          </p:nvGrpSpPr>
          <p:grpSpPr>
            <a:xfrm>
              <a:off x="1150920" y="5135400"/>
              <a:ext cx="2709720" cy="570240"/>
              <a:chOff x="1150920" y="5135400"/>
              <a:chExt cx="2709720" cy="570240"/>
            </a:xfrm>
          </p:grpSpPr>
          <p:sp>
            <p:nvSpPr>
              <p:cNvPr id="331" name="Rectangle 81"/>
              <p:cNvSpPr/>
              <p:nvPr/>
            </p:nvSpPr>
            <p:spPr>
              <a:xfrm>
                <a:off x="1150920" y="5135400"/>
                <a:ext cx="2709720" cy="570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1150920" y="5135400"/>
                <a:ext cx="2709720" cy="5702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84"/>
            <p:cNvSpPr/>
            <p:nvPr/>
          </p:nvSpPr>
          <p:spPr>
            <a:xfrm>
              <a:off x="2522520" y="515952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85"/>
            <p:cNvSpPr/>
            <p:nvPr/>
          </p:nvSpPr>
          <p:spPr>
            <a:xfrm>
              <a:off x="2522520" y="515952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86"/>
            <p:cNvSpPr/>
            <p:nvPr/>
          </p:nvSpPr>
          <p:spPr>
            <a:xfrm>
              <a:off x="2050920" y="542916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89"/>
            <p:cNvGrpSpPr/>
            <p:nvPr/>
          </p:nvGrpSpPr>
          <p:grpSpPr>
            <a:xfrm>
              <a:off x="2038320" y="3965400"/>
              <a:ext cx="63360" cy="63720"/>
              <a:chOff x="2038320" y="3965400"/>
              <a:chExt cx="63360" cy="63720"/>
            </a:xfrm>
          </p:grpSpPr>
          <p:sp>
            <p:nvSpPr>
              <p:cNvPr id="337" name="Oval 87"/>
              <p:cNvSpPr/>
              <p:nvPr/>
            </p:nvSpPr>
            <p:spPr>
              <a:xfrm>
                <a:off x="2038320" y="396540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88"/>
              <p:cNvSpPr/>
              <p:nvPr/>
            </p:nvSpPr>
            <p:spPr>
              <a:xfrm>
                <a:off x="2038320" y="3965400"/>
                <a:ext cx="63360" cy="637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92"/>
            <p:cNvGrpSpPr/>
            <p:nvPr/>
          </p:nvGrpSpPr>
          <p:grpSpPr>
            <a:xfrm>
              <a:off x="2419200" y="3665520"/>
              <a:ext cx="63720" cy="63360"/>
              <a:chOff x="2419200" y="3665520"/>
              <a:chExt cx="63720" cy="63360"/>
            </a:xfrm>
          </p:grpSpPr>
          <p:sp>
            <p:nvSpPr>
              <p:cNvPr id="340" name="Oval 90"/>
              <p:cNvSpPr/>
              <p:nvPr/>
            </p:nvSpPr>
            <p:spPr>
              <a:xfrm>
                <a:off x="2419200" y="366552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91"/>
              <p:cNvSpPr/>
              <p:nvPr/>
            </p:nvSpPr>
            <p:spPr>
              <a:xfrm>
                <a:off x="2419200" y="366552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95"/>
            <p:cNvGrpSpPr/>
            <p:nvPr/>
          </p:nvGrpSpPr>
          <p:grpSpPr>
            <a:xfrm>
              <a:off x="2435400" y="3997440"/>
              <a:ext cx="63360" cy="63360"/>
              <a:chOff x="2435400" y="3997440"/>
              <a:chExt cx="63360" cy="63360"/>
            </a:xfrm>
          </p:grpSpPr>
          <p:sp>
            <p:nvSpPr>
              <p:cNvPr id="343" name="Oval 93"/>
              <p:cNvSpPr/>
              <p:nvPr/>
            </p:nvSpPr>
            <p:spPr>
              <a:xfrm>
                <a:off x="2435400" y="399744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94"/>
              <p:cNvSpPr/>
              <p:nvPr/>
            </p:nvSpPr>
            <p:spPr>
              <a:xfrm>
                <a:off x="2435400" y="3997440"/>
                <a:ext cx="6336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98"/>
            <p:cNvGrpSpPr/>
            <p:nvPr/>
          </p:nvGrpSpPr>
          <p:grpSpPr>
            <a:xfrm>
              <a:off x="1927080" y="4203720"/>
              <a:ext cx="63720" cy="63360"/>
              <a:chOff x="1927080" y="4203720"/>
              <a:chExt cx="63720" cy="63360"/>
            </a:xfrm>
          </p:grpSpPr>
          <p:sp>
            <p:nvSpPr>
              <p:cNvPr id="346" name="Oval 96"/>
              <p:cNvSpPr/>
              <p:nvPr/>
            </p:nvSpPr>
            <p:spPr>
              <a:xfrm>
                <a:off x="1927080" y="420372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97"/>
              <p:cNvSpPr/>
              <p:nvPr/>
            </p:nvSpPr>
            <p:spPr>
              <a:xfrm>
                <a:off x="1927080" y="4203720"/>
                <a:ext cx="63720" cy="6192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04"/>
            <p:cNvGrpSpPr/>
            <p:nvPr/>
          </p:nvGrpSpPr>
          <p:grpSpPr>
            <a:xfrm>
              <a:off x="3005280" y="4172040"/>
              <a:ext cx="63360" cy="63360"/>
              <a:chOff x="3005280" y="4172040"/>
              <a:chExt cx="63360" cy="63360"/>
            </a:xfrm>
          </p:grpSpPr>
          <p:sp>
            <p:nvSpPr>
              <p:cNvPr id="349" name="Oval 102"/>
              <p:cNvSpPr/>
              <p:nvPr/>
            </p:nvSpPr>
            <p:spPr>
              <a:xfrm>
                <a:off x="3005280" y="417204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03"/>
              <p:cNvSpPr/>
              <p:nvPr/>
            </p:nvSpPr>
            <p:spPr>
              <a:xfrm>
                <a:off x="3005280" y="4172040"/>
                <a:ext cx="6336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07"/>
            <p:cNvGrpSpPr/>
            <p:nvPr/>
          </p:nvGrpSpPr>
          <p:grpSpPr>
            <a:xfrm>
              <a:off x="2719440" y="3917880"/>
              <a:ext cx="63360" cy="63720"/>
              <a:chOff x="2719440" y="3917880"/>
              <a:chExt cx="63360" cy="63720"/>
            </a:xfrm>
          </p:grpSpPr>
          <p:sp>
            <p:nvSpPr>
              <p:cNvPr id="352" name="Oval 105"/>
              <p:cNvSpPr/>
              <p:nvPr/>
            </p:nvSpPr>
            <p:spPr>
              <a:xfrm>
                <a:off x="2719440" y="3917880"/>
                <a:ext cx="63360" cy="6372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06"/>
              <p:cNvSpPr/>
              <p:nvPr/>
            </p:nvSpPr>
            <p:spPr>
              <a:xfrm>
                <a:off x="2719440" y="391788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20" y="0"/>
                    </a:moveTo>
                    <a:cubicBezTo>
                      <a:pt x="10" y="0"/>
                      <a:pt x="0" y="10"/>
                      <a:pt x="0" y="20"/>
                    </a:cubicBezTo>
                    <a:cubicBezTo>
                      <a:pt x="0" y="31"/>
                      <a:pt x="10" y="40"/>
                      <a:pt x="20" y="40"/>
                    </a:cubicBezTo>
                    <a:cubicBezTo>
                      <a:pt x="32" y="40"/>
                      <a:pt x="40" y="31"/>
                      <a:pt x="40" y="20"/>
                    </a:cubicBezTo>
                    <a:cubicBezTo>
                      <a:pt x="40" y="10"/>
                      <a:pt x="32" y="0"/>
                      <a:pt x="20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Freeform 108"/>
            <p:cNvSpPr/>
            <p:nvPr/>
          </p:nvSpPr>
          <p:spPr>
            <a:xfrm>
              <a:off x="2403360" y="4100400"/>
              <a:ext cx="127080" cy="2444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9"/>
            <p:cNvSpPr/>
            <p:nvPr/>
          </p:nvSpPr>
          <p:spPr>
            <a:xfrm>
              <a:off x="2028960" y="4273560"/>
              <a:ext cx="263520" cy="166680"/>
            </a:xfrm>
            <a:custGeom>
              <a:avLst/>
              <a:gdLst/>
              <a:ahLst/>
              <a:rect l="l" t="t" r="r" b="b"/>
              <a:pathLst>
                <a:path w="265" h="169">
                  <a:moveTo>
                    <a:pt x="14" y="3"/>
                  </a:moveTo>
                  <a:lnTo>
                    <a:pt x="224" y="134"/>
                  </a:lnTo>
                  <a:cubicBezTo>
                    <a:pt x="228" y="137"/>
                    <a:pt x="229" y="142"/>
                    <a:pt x="227" y="145"/>
                  </a:cubicBezTo>
                  <a:cubicBezTo>
                    <a:pt x="225" y="149"/>
                    <a:pt x="220" y="150"/>
                    <a:pt x="216" y="148"/>
                  </a:cubicBezTo>
                  <a:lnTo>
                    <a:pt x="5" y="16"/>
                  </a:lnTo>
                  <a:cubicBezTo>
                    <a:pt x="1" y="14"/>
                    <a:pt x="0" y="9"/>
                    <a:pt x="3" y="5"/>
                  </a:cubicBezTo>
                  <a:cubicBezTo>
                    <a:pt x="5" y="1"/>
                    <a:pt x="10" y="0"/>
                    <a:pt x="14" y="3"/>
                  </a:cubicBezTo>
                  <a:close/>
                  <a:moveTo>
                    <a:pt x="191" y="47"/>
                  </a:moveTo>
                  <a:lnTo>
                    <a:pt x="265" y="169"/>
                  </a:lnTo>
                  <a:lnTo>
                    <a:pt x="123" y="156"/>
                  </a:lnTo>
                  <a:lnTo>
                    <a:pt x="19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10"/>
            <p:cNvSpPr/>
            <p:nvPr/>
          </p:nvSpPr>
          <p:spPr>
            <a:xfrm>
              <a:off x="2703600" y="4241880"/>
              <a:ext cx="247680" cy="198360"/>
            </a:xfrm>
            <a:custGeom>
              <a:avLst/>
              <a:gdLst/>
              <a:ahLst/>
              <a:rect l="l" t="t" r="r" b="b"/>
              <a:pathLst>
                <a:path w="249" h="201">
                  <a:moveTo>
                    <a:pt x="245" y="16"/>
                  </a:moveTo>
                  <a:lnTo>
                    <a:pt x="47" y="174"/>
                  </a:lnTo>
                  <a:cubicBezTo>
                    <a:pt x="44" y="177"/>
                    <a:pt x="39" y="177"/>
                    <a:pt x="36" y="173"/>
                  </a:cubicBezTo>
                  <a:cubicBezTo>
                    <a:pt x="33" y="170"/>
                    <a:pt x="34" y="165"/>
                    <a:pt x="37" y="162"/>
                  </a:cubicBezTo>
                  <a:lnTo>
                    <a:pt x="235" y="3"/>
                  </a:lnTo>
                  <a:cubicBezTo>
                    <a:pt x="239" y="0"/>
                    <a:pt x="244" y="1"/>
                    <a:pt x="247" y="4"/>
                  </a:cubicBezTo>
                  <a:cubicBezTo>
                    <a:pt x="249" y="8"/>
                    <a:pt x="249" y="13"/>
                    <a:pt x="245" y="16"/>
                  </a:cubicBezTo>
                  <a:close/>
                  <a:moveTo>
                    <a:pt x="140" y="171"/>
                  </a:moveTo>
                  <a:lnTo>
                    <a:pt x="0" y="201"/>
                  </a:lnTo>
                  <a:lnTo>
                    <a:pt x="60" y="72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13"/>
            <p:cNvGrpSpPr/>
            <p:nvPr/>
          </p:nvGrpSpPr>
          <p:grpSpPr>
            <a:xfrm>
              <a:off x="3021120" y="3886200"/>
              <a:ext cx="63360" cy="63360"/>
              <a:chOff x="3021120" y="3886200"/>
              <a:chExt cx="63360" cy="63360"/>
            </a:xfrm>
          </p:grpSpPr>
          <p:sp>
            <p:nvSpPr>
              <p:cNvPr id="358" name="Oval 111"/>
              <p:cNvSpPr/>
              <p:nvPr/>
            </p:nvSpPr>
            <p:spPr>
              <a:xfrm>
                <a:off x="3021120" y="3886200"/>
                <a:ext cx="6336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12"/>
              <p:cNvSpPr/>
              <p:nvPr/>
            </p:nvSpPr>
            <p:spPr>
              <a:xfrm>
                <a:off x="3021120" y="3886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20" y="0"/>
                    </a:moveTo>
                    <a:cubicBezTo>
                      <a:pt x="9" y="0"/>
                      <a:pt x="0" y="10"/>
                      <a:pt x="0" y="20"/>
                    </a:cubicBezTo>
                    <a:cubicBezTo>
                      <a:pt x="0" y="32"/>
                      <a:pt x="9" y="40"/>
                      <a:pt x="20" y="40"/>
                    </a:cubicBezTo>
                    <a:cubicBezTo>
                      <a:pt x="31" y="40"/>
                      <a:pt x="40" y="32"/>
                      <a:pt x="40" y="20"/>
                    </a:cubicBezTo>
                    <a:cubicBezTo>
                      <a:pt x="40" y="10"/>
                      <a:pt x="31" y="0"/>
                      <a:pt x="20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ectangle 114"/>
            <p:cNvSpPr/>
            <p:nvPr/>
          </p:nvSpPr>
          <p:spPr>
            <a:xfrm>
              <a:off x="1711800" y="38480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Group 117"/>
            <p:cNvGrpSpPr/>
            <p:nvPr/>
          </p:nvGrpSpPr>
          <p:grpSpPr>
            <a:xfrm>
              <a:off x="2260440" y="4583160"/>
              <a:ext cx="474840" cy="552240"/>
              <a:chOff x="2260440" y="4583160"/>
              <a:chExt cx="474840" cy="552240"/>
            </a:xfrm>
          </p:grpSpPr>
          <p:sp>
            <p:nvSpPr>
              <p:cNvPr id="362" name="Rectangle 115"/>
              <p:cNvSpPr/>
              <p:nvPr/>
            </p:nvSpPr>
            <p:spPr>
              <a:xfrm>
                <a:off x="2260440" y="4583160"/>
                <a:ext cx="474840" cy="552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6"/>
              <p:cNvSpPr/>
              <p:nvPr/>
            </p:nvSpPr>
            <p:spPr>
              <a:xfrm>
                <a:off x="2260440" y="4583160"/>
                <a:ext cx="474840" cy="5522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20"/>
            <p:cNvGrpSpPr/>
            <p:nvPr/>
          </p:nvGrpSpPr>
          <p:grpSpPr>
            <a:xfrm>
              <a:off x="2371680" y="4440240"/>
              <a:ext cx="63720" cy="63360"/>
              <a:chOff x="2371680" y="4440240"/>
              <a:chExt cx="63720" cy="63360"/>
            </a:xfrm>
          </p:grpSpPr>
          <p:sp>
            <p:nvSpPr>
              <p:cNvPr id="365" name="Oval 118"/>
              <p:cNvSpPr/>
              <p:nvPr/>
            </p:nvSpPr>
            <p:spPr>
              <a:xfrm>
                <a:off x="2371680" y="4440240"/>
                <a:ext cx="637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119"/>
              <p:cNvSpPr/>
              <p:nvPr/>
            </p:nvSpPr>
            <p:spPr>
              <a:xfrm>
                <a:off x="2371680" y="4440240"/>
                <a:ext cx="63720" cy="6336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23"/>
            <p:cNvGrpSpPr/>
            <p:nvPr/>
          </p:nvGrpSpPr>
          <p:grpSpPr>
            <a:xfrm>
              <a:off x="2546280" y="4440240"/>
              <a:ext cx="61920" cy="63360"/>
              <a:chOff x="2546280" y="4440240"/>
              <a:chExt cx="61920" cy="63360"/>
            </a:xfrm>
          </p:grpSpPr>
          <p:sp>
            <p:nvSpPr>
              <p:cNvPr id="368" name="Oval 121"/>
              <p:cNvSpPr/>
              <p:nvPr/>
            </p:nvSpPr>
            <p:spPr>
              <a:xfrm>
                <a:off x="2546280" y="4440240"/>
                <a:ext cx="61920" cy="63360"/>
              </a:xfrm>
              <a:prstGeom prst="ellips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22"/>
              <p:cNvSpPr/>
              <p:nvPr/>
            </p:nvSpPr>
            <p:spPr>
              <a:xfrm>
                <a:off x="2546280" y="44402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cubicBezTo>
                      <a:pt x="9" y="0"/>
                      <a:pt x="0" y="9"/>
                      <a:pt x="0" y="20"/>
                    </a:cubicBezTo>
                    <a:cubicBezTo>
                      <a:pt x="0" y="31"/>
                      <a:pt x="9" y="40"/>
                      <a:pt x="19" y="40"/>
                    </a:cubicBezTo>
                    <a:cubicBezTo>
                      <a:pt x="31" y="40"/>
                      <a:pt x="39" y="31"/>
                      <a:pt x="39" y="20"/>
                    </a:cubicBezTo>
                    <a:cubicBezTo>
                      <a:pt x="39" y="9"/>
                      <a:pt x="31" y="0"/>
                      <a:pt x="19" y="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Freeform 124"/>
            <p:cNvSpPr/>
            <p:nvPr/>
          </p:nvSpPr>
          <p:spPr>
            <a:xfrm>
              <a:off x="2340000" y="4495680"/>
              <a:ext cx="127080" cy="2444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5"/>
            <p:cNvSpPr/>
            <p:nvPr/>
          </p:nvSpPr>
          <p:spPr>
            <a:xfrm>
              <a:off x="2514600" y="4495680"/>
              <a:ext cx="125280" cy="2444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72" y="8"/>
                  </a:moveTo>
                  <a:lnTo>
                    <a:pt x="72" y="195"/>
                  </a:lnTo>
                  <a:cubicBezTo>
                    <a:pt x="72" y="200"/>
                    <a:pt x="69" y="203"/>
                    <a:pt x="64" y="203"/>
                  </a:cubicBezTo>
                  <a:cubicBezTo>
                    <a:pt x="60" y="203"/>
                    <a:pt x="56" y="200"/>
                    <a:pt x="56" y="195"/>
                  </a:cubicBezTo>
                  <a:lnTo>
                    <a:pt x="56" y="8"/>
                  </a:lnTo>
                  <a:cubicBezTo>
                    <a:pt x="56" y="4"/>
                    <a:pt x="60" y="0"/>
                    <a:pt x="64" y="0"/>
                  </a:cubicBezTo>
                  <a:cubicBezTo>
                    <a:pt x="69" y="0"/>
                    <a:pt x="72" y="4"/>
                    <a:pt x="72" y="8"/>
                  </a:cubicBezTo>
                  <a:close/>
                  <a:moveTo>
                    <a:pt x="128" y="120"/>
                  </a:moveTo>
                  <a:lnTo>
                    <a:pt x="64" y="248"/>
                  </a:lnTo>
                  <a:lnTo>
                    <a:pt x="0" y="120"/>
                  </a:lnTo>
                  <a:lnTo>
                    <a:pt x="12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28"/>
          <p:cNvGrpSpPr/>
          <p:nvPr/>
        </p:nvGrpSpPr>
        <p:grpSpPr>
          <a:xfrm>
            <a:off x="5105520" y="3576600"/>
            <a:ext cx="2741400" cy="2214720"/>
            <a:chOff x="5105520" y="3576600"/>
            <a:chExt cx="2741400" cy="2214720"/>
          </a:xfrm>
        </p:grpSpPr>
        <p:sp>
          <p:nvSpPr>
            <p:cNvPr id="373" name="AutoShape 127"/>
            <p:cNvSpPr/>
            <p:nvPr/>
          </p:nvSpPr>
          <p:spPr>
            <a:xfrm>
              <a:off x="5105520" y="3576600"/>
              <a:ext cx="274140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31"/>
            <p:cNvGrpSpPr/>
            <p:nvPr/>
          </p:nvGrpSpPr>
          <p:grpSpPr>
            <a:xfrm>
              <a:off x="6222960" y="3727440"/>
              <a:ext cx="474840" cy="395280"/>
              <a:chOff x="6222960" y="3727440"/>
              <a:chExt cx="474840" cy="395280"/>
            </a:xfrm>
          </p:grpSpPr>
          <p:sp>
            <p:nvSpPr>
              <p:cNvPr id="375" name="Oval 129"/>
              <p:cNvSpPr/>
              <p:nvPr/>
            </p:nvSpPr>
            <p:spPr>
              <a:xfrm>
                <a:off x="6222960" y="3727440"/>
                <a:ext cx="474840" cy="395280"/>
              </a:xfrm>
              <a:prstGeom prst="ellipse">
                <a:avLst/>
              </a:pr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0"/>
              <p:cNvSpPr/>
              <p:nvPr/>
            </p:nvSpPr>
            <p:spPr>
              <a:xfrm>
                <a:off x="6222960" y="3727440"/>
                <a:ext cx="474840" cy="395280"/>
              </a:xfrm>
              <a:prstGeom prst="ellips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34"/>
            <p:cNvGrpSpPr/>
            <p:nvPr/>
          </p:nvGrpSpPr>
          <p:grpSpPr>
            <a:xfrm>
              <a:off x="5113440" y="5197320"/>
              <a:ext cx="2709720" cy="570240"/>
              <a:chOff x="5113440" y="5197320"/>
              <a:chExt cx="2709720" cy="570240"/>
            </a:xfrm>
          </p:grpSpPr>
          <p:sp>
            <p:nvSpPr>
              <p:cNvPr id="378" name="Rectangle 132"/>
              <p:cNvSpPr/>
              <p:nvPr/>
            </p:nvSpPr>
            <p:spPr>
              <a:xfrm>
                <a:off x="5113440" y="5197320"/>
                <a:ext cx="2709720" cy="570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33"/>
              <p:cNvSpPr/>
              <p:nvPr/>
            </p:nvSpPr>
            <p:spPr>
              <a:xfrm>
                <a:off x="5113440" y="5197320"/>
                <a:ext cx="2709720" cy="5702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135"/>
            <p:cNvSpPr/>
            <p:nvPr/>
          </p:nvSpPr>
          <p:spPr>
            <a:xfrm>
              <a:off x="6483240" y="522144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36"/>
            <p:cNvSpPr/>
            <p:nvPr/>
          </p:nvSpPr>
          <p:spPr>
            <a:xfrm>
              <a:off x="6483240" y="5221440"/>
              <a:ext cx="11124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37"/>
            <p:cNvSpPr/>
            <p:nvPr/>
          </p:nvSpPr>
          <p:spPr>
            <a:xfrm>
              <a:off x="6013440" y="549108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143"/>
            <p:cNvGrpSpPr/>
            <p:nvPr/>
          </p:nvGrpSpPr>
          <p:grpSpPr>
            <a:xfrm>
              <a:off x="6222960" y="3932280"/>
              <a:ext cx="474840" cy="1265040"/>
              <a:chOff x="6222960" y="3932280"/>
              <a:chExt cx="474840" cy="1265040"/>
            </a:xfrm>
          </p:grpSpPr>
          <p:sp>
            <p:nvSpPr>
              <p:cNvPr id="384" name="Rectangle 141"/>
              <p:cNvSpPr/>
              <p:nvPr/>
            </p:nvSpPr>
            <p:spPr>
              <a:xfrm>
                <a:off x="6222960" y="3932280"/>
                <a:ext cx="474840" cy="12650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42"/>
              <p:cNvSpPr/>
              <p:nvPr/>
            </p:nvSpPr>
            <p:spPr>
              <a:xfrm>
                <a:off x="6222960" y="3932280"/>
                <a:ext cx="474840" cy="12650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Freeform 144"/>
            <p:cNvSpPr/>
            <p:nvPr/>
          </p:nvSpPr>
          <p:spPr>
            <a:xfrm>
              <a:off x="6491160" y="3735360"/>
              <a:ext cx="500040" cy="152280"/>
            </a:xfrm>
            <a:custGeom>
              <a:avLst/>
              <a:gdLst/>
              <a:ahLst/>
              <a:rect l="l" t="t" r="r" b="b"/>
              <a:pathLst>
                <a:path w="505" h="155">
                  <a:moveTo>
                    <a:pt x="498" y="16"/>
                  </a:moveTo>
                  <a:lnTo>
                    <a:pt x="54" y="117"/>
                  </a:lnTo>
                  <a:cubicBezTo>
                    <a:pt x="50" y="117"/>
                    <a:pt x="46" y="115"/>
                    <a:pt x="45" y="110"/>
                  </a:cubicBezTo>
                  <a:cubicBezTo>
                    <a:pt x="44" y="106"/>
                    <a:pt x="46" y="102"/>
                    <a:pt x="51" y="101"/>
                  </a:cubicBezTo>
                  <a:lnTo>
                    <a:pt x="495" y="1"/>
                  </a:lnTo>
                  <a:cubicBezTo>
                    <a:pt x="499" y="0"/>
                    <a:pt x="503" y="2"/>
                    <a:pt x="504" y="7"/>
                  </a:cubicBezTo>
                  <a:cubicBezTo>
                    <a:pt x="505" y="11"/>
                    <a:pt x="503" y="15"/>
                    <a:pt x="498" y="16"/>
                  </a:cubicBezTo>
                  <a:close/>
                  <a:moveTo>
                    <a:pt x="139" y="155"/>
                  </a:moveTo>
                  <a:lnTo>
                    <a:pt x="0" y="120"/>
                  </a:lnTo>
                  <a:lnTo>
                    <a:pt x="111" y="30"/>
                  </a:lnTo>
                  <a:lnTo>
                    <a:pt x="139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45"/>
            <p:cNvSpPr/>
            <p:nvPr/>
          </p:nvSpPr>
          <p:spPr>
            <a:xfrm>
              <a:off x="7041600" y="3592440"/>
              <a:ext cx="74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al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46"/>
            <p:cNvSpPr/>
            <p:nvPr/>
          </p:nvSpPr>
          <p:spPr>
            <a:xfrm>
              <a:off x="6888240" y="3948120"/>
              <a:ext cx="158760" cy="1217520"/>
            </a:xfrm>
            <a:custGeom>
              <a:avLst/>
              <a:gdLst/>
              <a:ahLst/>
              <a:rect l="l" t="t" r="r" b="b"/>
              <a:pathLst>
                <a:path w="160" h="1232">
                  <a:moveTo>
                    <a:pt x="0" y="0"/>
                  </a:moveTo>
                  <a:cubicBezTo>
                    <a:pt x="45" y="0"/>
                    <a:pt x="80" y="46"/>
                    <a:pt x="80" y="103"/>
                  </a:cubicBezTo>
                  <a:lnTo>
                    <a:pt x="80" y="522"/>
                  </a:lnTo>
                  <a:cubicBezTo>
                    <a:pt x="80" y="578"/>
                    <a:pt x="116" y="624"/>
                    <a:pt x="160" y="624"/>
                  </a:cubicBezTo>
                  <a:cubicBezTo>
                    <a:pt x="116" y="624"/>
                    <a:pt x="80" y="670"/>
                    <a:pt x="80" y="727"/>
                  </a:cubicBezTo>
                  <a:lnTo>
                    <a:pt x="80" y="1130"/>
                  </a:lnTo>
                  <a:cubicBezTo>
                    <a:pt x="80" y="1186"/>
                    <a:pt x="45" y="1232"/>
                    <a:pt x="0" y="1232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47"/>
            <p:cNvSpPr/>
            <p:nvPr/>
          </p:nvSpPr>
          <p:spPr>
            <a:xfrm>
              <a:off x="7238160" y="441468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N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o Ejempl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anohilos de Silicón/Germanio producidos por depósito químico en fase vapor mediante el mecanismo Vapor-Liquido-Solido (VL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995560" cy="3844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nohilos de ale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licio/germanio (Si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4343400" y="5791320"/>
            <a:ext cx="449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Kok-Keong Lew, Ling Pan, Elizabeth C. Dickey, Joan M .Redwing:. Vapor-Liquid-Solid Growth of Silicon- Germanium Nanowires. Advanced Materials. 2003. Vol.15(24), pages 2073-2074.  Copyright Wiley-VCH Verlag GmbH &amp; Co. KGaA. Reproduc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5"/>
          <p:cNvSpPr/>
          <p:nvPr/>
        </p:nvSpPr>
        <p:spPr>
          <a:xfrm>
            <a:off x="1981080" y="661032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914400" y="152280"/>
            <a:ext cx="70866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uto Ensambl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uto-ensamblaje envuelve uno de los siguientes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Ensamblaje Quí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Ensamblaje Fí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  <a:ea typeface="ＭＳ Ｐゴシック"/>
              </a:rPr>
              <a:t>Ensamblaje Bi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 lo largo de estos módulos encontrarás palabras y términos impresos en color </a:t>
            </a:r>
            <a:r>
              <a:rPr b="0" lang="es-PR" sz="3200" spc="-1" strike="noStrike">
                <a:solidFill>
                  <a:srgbClr val="0000ff"/>
                </a:solidFill>
                <a:latin typeface="Arial"/>
              </a:rPr>
              <a:t>azul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  Estas palabras y términos se definen en el Glosario, que se puede abrir haciendo </a:t>
            </a:r>
            <a:r>
              <a:rPr b="0" lang="es-PR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lic aquí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86000" y="6620040"/>
            <a:ext cx="46483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o-Ensamblaje Quí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457200" y="669960"/>
            <a:ext cx="82231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ste ejemplo, moléculas de alkanetiol forman una mono capa auto ensamblada (SAM) sobre una superficie de 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unos alkanethiols pueden tener grupos funcionales útiles en su extremo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nde, los  </a:t>
            </a:r>
            <a:r>
              <a:rPr b="0" lang="es-ES_tradnl" sz="2000" spc="-1" strike="noStrike">
                <a:solidFill>
                  <a:srgbClr val="92d050"/>
                </a:solidFill>
                <a:latin typeface="Arial"/>
                <a:ea typeface="ＭＳ Ｐゴシック"/>
              </a:rPr>
              <a:t>thiol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n modificar químicamente una superficie y hasta permitir que esta sirva para reconocer moléculas especificas (sens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287"/>
          <p:cNvGrpSpPr/>
          <p:nvPr/>
        </p:nvGrpSpPr>
        <p:grpSpPr>
          <a:xfrm>
            <a:off x="196200" y="3289320"/>
            <a:ext cx="8621640" cy="3363840"/>
            <a:chOff x="196200" y="3289320"/>
            <a:chExt cx="8621640" cy="3363840"/>
          </a:xfrm>
        </p:grpSpPr>
        <p:grpSp>
          <p:nvGrpSpPr>
            <p:cNvPr id="404" name="Group 286"/>
            <p:cNvGrpSpPr/>
            <p:nvPr/>
          </p:nvGrpSpPr>
          <p:grpSpPr>
            <a:xfrm>
              <a:off x="5239800" y="3551400"/>
              <a:ext cx="3578040" cy="2310840"/>
              <a:chOff x="5239800" y="3551400"/>
              <a:chExt cx="3578040" cy="2310840"/>
            </a:xfrm>
          </p:grpSpPr>
          <p:grpSp>
            <p:nvGrpSpPr>
              <p:cNvPr id="405" name="Group 97"/>
              <p:cNvGrpSpPr/>
              <p:nvPr/>
            </p:nvGrpSpPr>
            <p:grpSpPr>
              <a:xfrm>
                <a:off x="5239800" y="4335120"/>
                <a:ext cx="3578040" cy="1527120"/>
                <a:chOff x="5239800" y="4335120"/>
                <a:chExt cx="3578040" cy="1527120"/>
              </a:xfrm>
            </p:grpSpPr>
            <p:grpSp>
              <p:nvGrpSpPr>
                <p:cNvPr id="406" name="Group 59"/>
                <p:cNvGrpSpPr/>
                <p:nvPr/>
              </p:nvGrpSpPr>
              <p:grpSpPr>
                <a:xfrm>
                  <a:off x="5239800" y="4461840"/>
                  <a:ext cx="3578040" cy="1400400"/>
                  <a:chOff x="5239800" y="4461840"/>
                  <a:chExt cx="3578040" cy="1400400"/>
                </a:xfrm>
              </p:grpSpPr>
              <p:sp>
                <p:nvSpPr>
                  <p:cNvPr id="407" name="Rectangle 9"/>
                  <p:cNvSpPr/>
                  <p:nvPr/>
                </p:nvSpPr>
                <p:spPr>
                  <a:xfrm>
                    <a:off x="5464080" y="5268600"/>
                    <a:ext cx="3111840" cy="59364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uperficie en or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8" name="Group 7"/>
                  <p:cNvGrpSpPr/>
                  <p:nvPr/>
                </p:nvGrpSpPr>
                <p:grpSpPr>
                  <a:xfrm>
                    <a:off x="5402160" y="4465080"/>
                    <a:ext cx="649440" cy="817200"/>
                    <a:chOff x="5402160" y="4465080"/>
                    <a:chExt cx="649440" cy="817200"/>
                  </a:xfrm>
                </p:grpSpPr>
                <p:sp>
                  <p:nvSpPr>
                    <p:cNvPr id="409" name="Freeform 8"/>
                    <p:cNvSpPr/>
                    <p:nvPr/>
                  </p:nvSpPr>
                  <p:spPr>
                    <a:xfrm rot="18135600">
                      <a:off x="5420160" y="4635000"/>
                      <a:ext cx="612720" cy="38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Oval 9"/>
                    <p:cNvSpPr/>
                    <p:nvPr/>
                  </p:nvSpPr>
                  <p:spPr>
                    <a:xfrm rot="18135600">
                      <a:off x="5677920" y="5131080"/>
                      <a:ext cx="123840" cy="1285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10"/>
                  <p:cNvGrpSpPr/>
                  <p:nvPr/>
                </p:nvGrpSpPr>
                <p:grpSpPr>
                  <a:xfrm>
                    <a:off x="5239800" y="4469040"/>
                    <a:ext cx="603720" cy="829800"/>
                    <a:chOff x="5239800" y="4469040"/>
                    <a:chExt cx="603720" cy="829800"/>
                  </a:xfrm>
                </p:grpSpPr>
                <p:sp>
                  <p:nvSpPr>
                    <p:cNvPr id="412" name="Freeform 11"/>
                    <p:cNvSpPr/>
                    <p:nvPr/>
                  </p:nvSpPr>
                  <p:spPr>
                    <a:xfrm rot="18135600">
                      <a:off x="5249880" y="4634640"/>
                      <a:ext cx="58284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Oval 12"/>
                    <p:cNvSpPr/>
                    <p:nvPr/>
                  </p:nvSpPr>
                  <p:spPr>
                    <a:xfrm rot="18135600">
                      <a:off x="5504760" y="5159160"/>
                      <a:ext cx="119160" cy="116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13"/>
                  <p:cNvGrpSpPr/>
                  <p:nvPr/>
                </p:nvGrpSpPr>
                <p:grpSpPr>
                  <a:xfrm>
                    <a:off x="5606640" y="4475880"/>
                    <a:ext cx="640440" cy="819360"/>
                    <a:chOff x="5606640" y="4475880"/>
                    <a:chExt cx="640440" cy="819360"/>
                  </a:xfrm>
                </p:grpSpPr>
                <p:sp>
                  <p:nvSpPr>
                    <p:cNvPr id="415" name="Freeform 14"/>
                    <p:cNvSpPr/>
                    <p:nvPr/>
                  </p:nvSpPr>
                  <p:spPr>
                    <a:xfrm rot="18135600">
                      <a:off x="5634000" y="4632840"/>
                      <a:ext cx="58536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Oval 15"/>
                    <p:cNvSpPr/>
                    <p:nvPr/>
                  </p:nvSpPr>
                  <p:spPr>
                    <a:xfrm rot="18135600">
                      <a:off x="5864760" y="5149080"/>
                      <a:ext cx="123840" cy="122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Group 16"/>
                  <p:cNvGrpSpPr/>
                  <p:nvPr/>
                </p:nvGrpSpPr>
                <p:grpSpPr>
                  <a:xfrm>
                    <a:off x="5791320" y="4471920"/>
                    <a:ext cx="608760" cy="820080"/>
                    <a:chOff x="5791320" y="4471920"/>
                    <a:chExt cx="608760" cy="820080"/>
                  </a:xfrm>
                </p:grpSpPr>
                <p:sp>
                  <p:nvSpPr>
                    <p:cNvPr id="418" name="Freeform 17"/>
                    <p:cNvSpPr/>
                    <p:nvPr/>
                  </p:nvSpPr>
                  <p:spPr>
                    <a:xfrm rot="18135600">
                      <a:off x="5804280" y="4635720"/>
                      <a:ext cx="58248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18"/>
                    <p:cNvSpPr/>
                    <p:nvPr/>
                  </p:nvSpPr>
                  <p:spPr>
                    <a:xfrm rot="18135600">
                      <a:off x="6056640" y="5157000"/>
                      <a:ext cx="119520" cy="1101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19"/>
                  <p:cNvGrpSpPr/>
                  <p:nvPr/>
                </p:nvGrpSpPr>
                <p:grpSpPr>
                  <a:xfrm>
                    <a:off x="5973480" y="4471920"/>
                    <a:ext cx="635040" cy="819000"/>
                    <a:chOff x="5973480" y="4471920"/>
                    <a:chExt cx="635040" cy="819000"/>
                  </a:xfrm>
                </p:grpSpPr>
                <p:sp>
                  <p:nvSpPr>
                    <p:cNvPr id="421" name="Freeform 20"/>
                    <p:cNvSpPr/>
                    <p:nvPr/>
                  </p:nvSpPr>
                  <p:spPr>
                    <a:xfrm rot="18135600">
                      <a:off x="5994360" y="4634640"/>
                      <a:ext cx="592920" cy="37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53"/>
                    <p:cNvSpPr/>
                    <p:nvPr/>
                  </p:nvSpPr>
                  <p:spPr>
                    <a:xfrm rot="18135600">
                      <a:off x="6239160" y="5147280"/>
                      <a:ext cx="123120" cy="1191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22"/>
                  <p:cNvGrpSpPr/>
                  <p:nvPr/>
                </p:nvGrpSpPr>
                <p:grpSpPr>
                  <a:xfrm>
                    <a:off x="7275600" y="4473000"/>
                    <a:ext cx="614160" cy="824040"/>
                    <a:chOff x="7275600" y="4473000"/>
                    <a:chExt cx="614160" cy="824040"/>
                  </a:xfrm>
                </p:grpSpPr>
                <p:sp>
                  <p:nvSpPr>
                    <p:cNvPr id="424" name="Freeform 50"/>
                    <p:cNvSpPr/>
                    <p:nvPr/>
                  </p:nvSpPr>
                  <p:spPr>
                    <a:xfrm rot="18135600">
                      <a:off x="7293960" y="4632480"/>
                      <a:ext cx="577080" cy="36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Oval 51"/>
                    <p:cNvSpPr/>
                    <p:nvPr/>
                  </p:nvSpPr>
                  <p:spPr>
                    <a:xfrm rot="18135600">
                      <a:off x="7531200" y="5155200"/>
                      <a:ext cx="119880" cy="118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25"/>
                  <p:cNvGrpSpPr/>
                  <p:nvPr/>
                </p:nvGrpSpPr>
                <p:grpSpPr>
                  <a:xfrm>
                    <a:off x="6341040" y="4469040"/>
                    <a:ext cx="627120" cy="811800"/>
                    <a:chOff x="6341040" y="4469040"/>
                    <a:chExt cx="627120" cy="811800"/>
                  </a:xfrm>
                </p:grpSpPr>
                <p:sp>
                  <p:nvSpPr>
                    <p:cNvPr id="427" name="Freeform 48"/>
                    <p:cNvSpPr/>
                    <p:nvPr/>
                  </p:nvSpPr>
                  <p:spPr>
                    <a:xfrm rot="18135600">
                      <a:off x="6356520" y="4635720"/>
                      <a:ext cx="595800" cy="36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Oval 49"/>
                    <p:cNvSpPr/>
                    <p:nvPr/>
                  </p:nvSpPr>
                  <p:spPr>
                    <a:xfrm rot="18135600">
                      <a:off x="6608880" y="5144400"/>
                      <a:ext cx="124200" cy="109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Group 28"/>
                  <p:cNvGrpSpPr/>
                  <p:nvPr/>
                </p:nvGrpSpPr>
                <p:grpSpPr>
                  <a:xfrm>
                    <a:off x="6535440" y="4468320"/>
                    <a:ext cx="613800" cy="813240"/>
                    <a:chOff x="6535440" y="4468320"/>
                    <a:chExt cx="613800" cy="813240"/>
                  </a:xfrm>
                </p:grpSpPr>
                <p:sp>
                  <p:nvSpPr>
                    <p:cNvPr id="430" name="Freeform 46"/>
                    <p:cNvSpPr/>
                    <p:nvPr/>
                  </p:nvSpPr>
                  <p:spPr>
                    <a:xfrm rot="18135600">
                      <a:off x="6558120" y="4622760"/>
                      <a:ext cx="568440" cy="36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Oval 47"/>
                    <p:cNvSpPr/>
                    <p:nvPr/>
                  </p:nvSpPr>
                  <p:spPr>
                    <a:xfrm rot="18135600">
                      <a:off x="6794280" y="5141520"/>
                      <a:ext cx="117000" cy="117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Group 31"/>
                  <p:cNvGrpSpPr/>
                  <p:nvPr/>
                </p:nvGrpSpPr>
                <p:grpSpPr>
                  <a:xfrm>
                    <a:off x="6702840" y="4461840"/>
                    <a:ext cx="616320" cy="824760"/>
                    <a:chOff x="6702840" y="4461840"/>
                    <a:chExt cx="616320" cy="824760"/>
                  </a:xfrm>
                </p:grpSpPr>
                <p:sp>
                  <p:nvSpPr>
                    <p:cNvPr id="433" name="Freeform 44"/>
                    <p:cNvSpPr/>
                    <p:nvPr/>
                  </p:nvSpPr>
                  <p:spPr>
                    <a:xfrm rot="18135600">
                      <a:off x="6710040" y="4634280"/>
                      <a:ext cx="601200" cy="34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Oval 45"/>
                    <p:cNvSpPr/>
                    <p:nvPr/>
                  </p:nvSpPr>
                  <p:spPr>
                    <a:xfrm rot="18135600">
                      <a:off x="6974640" y="5142960"/>
                      <a:ext cx="123840" cy="118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Group 34"/>
                  <p:cNvGrpSpPr/>
                  <p:nvPr/>
                </p:nvGrpSpPr>
                <p:grpSpPr>
                  <a:xfrm>
                    <a:off x="6900840" y="4475880"/>
                    <a:ext cx="640440" cy="819360"/>
                    <a:chOff x="6900840" y="4475880"/>
                    <a:chExt cx="640440" cy="819360"/>
                  </a:xfrm>
                </p:grpSpPr>
                <p:sp>
                  <p:nvSpPr>
                    <p:cNvPr id="436" name="Freeform 42"/>
                    <p:cNvSpPr/>
                    <p:nvPr/>
                  </p:nvSpPr>
                  <p:spPr>
                    <a:xfrm rot="18135600">
                      <a:off x="6928200" y="4632840"/>
                      <a:ext cx="58536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Oval 43"/>
                    <p:cNvSpPr/>
                    <p:nvPr/>
                  </p:nvSpPr>
                  <p:spPr>
                    <a:xfrm rot="18135600">
                      <a:off x="7158960" y="5149080"/>
                      <a:ext cx="123840" cy="122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37"/>
                  <p:cNvGrpSpPr/>
                  <p:nvPr/>
                </p:nvGrpSpPr>
                <p:grpSpPr>
                  <a:xfrm>
                    <a:off x="7088040" y="4465800"/>
                    <a:ext cx="611280" cy="826200"/>
                    <a:chOff x="7088040" y="4465800"/>
                    <a:chExt cx="611280" cy="826200"/>
                  </a:xfrm>
                </p:grpSpPr>
                <p:sp>
                  <p:nvSpPr>
                    <p:cNvPr id="439" name="Freeform 40"/>
                    <p:cNvSpPr/>
                    <p:nvPr/>
                  </p:nvSpPr>
                  <p:spPr>
                    <a:xfrm rot="18135600">
                      <a:off x="7107120" y="4623480"/>
                      <a:ext cx="572400" cy="36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Oval 41"/>
                    <p:cNvSpPr/>
                    <p:nvPr/>
                  </p:nvSpPr>
                  <p:spPr>
                    <a:xfrm rot="18135600">
                      <a:off x="7350480" y="5153040"/>
                      <a:ext cx="117360" cy="116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40"/>
                  <p:cNvGrpSpPr/>
                  <p:nvPr/>
                </p:nvGrpSpPr>
                <p:grpSpPr>
                  <a:xfrm>
                    <a:off x="7817760" y="4464720"/>
                    <a:ext cx="626400" cy="833760"/>
                    <a:chOff x="7817760" y="4464720"/>
                    <a:chExt cx="626400" cy="833760"/>
                  </a:xfrm>
                </p:grpSpPr>
                <p:sp>
                  <p:nvSpPr>
                    <p:cNvPr id="442" name="Freeform 38"/>
                    <p:cNvSpPr/>
                    <p:nvPr/>
                  </p:nvSpPr>
                  <p:spPr>
                    <a:xfrm rot="18135600">
                      <a:off x="7835400" y="4628520"/>
                      <a:ext cx="5907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Oval 39"/>
                    <p:cNvSpPr/>
                    <p:nvPr/>
                  </p:nvSpPr>
                  <p:spPr>
                    <a:xfrm rot="18135600">
                      <a:off x="8086680" y="5156640"/>
                      <a:ext cx="126000" cy="1155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43"/>
                  <p:cNvGrpSpPr/>
                  <p:nvPr/>
                </p:nvGrpSpPr>
                <p:grpSpPr>
                  <a:xfrm>
                    <a:off x="7656120" y="4470120"/>
                    <a:ext cx="627840" cy="816840"/>
                    <a:chOff x="7656120" y="4470120"/>
                    <a:chExt cx="627840" cy="816840"/>
                  </a:xfrm>
                </p:grpSpPr>
                <p:sp>
                  <p:nvSpPr>
                    <p:cNvPr id="445" name="Freeform 36"/>
                    <p:cNvSpPr/>
                    <p:nvPr/>
                  </p:nvSpPr>
                  <p:spPr>
                    <a:xfrm rot="18135600">
                      <a:off x="7689600" y="4616280"/>
                      <a:ext cx="560160" cy="38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Oval 37"/>
                    <p:cNvSpPr/>
                    <p:nvPr/>
                  </p:nvSpPr>
                  <p:spPr>
                    <a:xfrm rot="18135600">
                      <a:off x="7902000" y="5144040"/>
                      <a:ext cx="119520" cy="1202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Group 46"/>
                  <p:cNvGrpSpPr/>
                  <p:nvPr/>
                </p:nvGrpSpPr>
                <p:grpSpPr>
                  <a:xfrm>
                    <a:off x="6159240" y="4470480"/>
                    <a:ext cx="628200" cy="822960"/>
                    <a:chOff x="6159240" y="4470480"/>
                    <a:chExt cx="628200" cy="822960"/>
                  </a:xfrm>
                </p:grpSpPr>
                <p:sp>
                  <p:nvSpPr>
                    <p:cNvPr id="448" name="Freeform 34"/>
                    <p:cNvSpPr/>
                    <p:nvPr/>
                  </p:nvSpPr>
                  <p:spPr>
                    <a:xfrm rot="18135600">
                      <a:off x="6180840" y="4629960"/>
                      <a:ext cx="584280" cy="37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Oval 35"/>
                    <p:cNvSpPr/>
                    <p:nvPr/>
                  </p:nvSpPr>
                  <p:spPr>
                    <a:xfrm rot="18135600">
                      <a:off x="6421680" y="5149080"/>
                      <a:ext cx="121680" cy="1206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Group 49"/>
                  <p:cNvGrpSpPr/>
                  <p:nvPr/>
                </p:nvGrpSpPr>
                <p:grpSpPr>
                  <a:xfrm>
                    <a:off x="7450920" y="4472280"/>
                    <a:ext cx="628200" cy="826200"/>
                    <a:chOff x="7450920" y="4472280"/>
                    <a:chExt cx="628200" cy="826200"/>
                  </a:xfrm>
                </p:grpSpPr>
                <p:sp>
                  <p:nvSpPr>
                    <p:cNvPr id="451" name="Freeform 32"/>
                    <p:cNvSpPr/>
                    <p:nvPr/>
                  </p:nvSpPr>
                  <p:spPr>
                    <a:xfrm rot="18135600">
                      <a:off x="7470360" y="4634280"/>
                      <a:ext cx="588960" cy="37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Oval 33"/>
                    <p:cNvSpPr/>
                    <p:nvPr/>
                  </p:nvSpPr>
                  <p:spPr>
                    <a:xfrm rot="18135600">
                      <a:off x="7714800" y="5152680"/>
                      <a:ext cx="126360" cy="1198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Group 52"/>
                  <p:cNvGrpSpPr/>
                  <p:nvPr/>
                </p:nvGrpSpPr>
                <p:grpSpPr>
                  <a:xfrm>
                    <a:off x="7999560" y="4463640"/>
                    <a:ext cx="626760" cy="822240"/>
                    <a:chOff x="7999560" y="4463640"/>
                    <a:chExt cx="626760" cy="822240"/>
                  </a:xfrm>
                </p:grpSpPr>
                <p:sp>
                  <p:nvSpPr>
                    <p:cNvPr id="454" name="Freeform 30"/>
                    <p:cNvSpPr/>
                    <p:nvPr/>
                  </p:nvSpPr>
                  <p:spPr>
                    <a:xfrm rot="18135600">
                      <a:off x="8014680" y="4630320"/>
                      <a:ext cx="596160" cy="36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Oval 31"/>
                    <p:cNvSpPr/>
                    <p:nvPr/>
                  </p:nvSpPr>
                  <p:spPr>
                    <a:xfrm rot="18135600">
                      <a:off x="8265600" y="5142240"/>
                      <a:ext cx="121680" cy="1198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Group 55"/>
                  <p:cNvGrpSpPr/>
                  <p:nvPr/>
                </p:nvGrpSpPr>
                <p:grpSpPr>
                  <a:xfrm>
                    <a:off x="8191800" y="4468680"/>
                    <a:ext cx="626040" cy="827640"/>
                    <a:chOff x="8191800" y="4468680"/>
                    <a:chExt cx="626040" cy="827640"/>
                  </a:xfrm>
                </p:grpSpPr>
                <p:sp>
                  <p:nvSpPr>
                    <p:cNvPr id="457" name="Freeform 497"/>
                    <p:cNvSpPr/>
                    <p:nvPr/>
                  </p:nvSpPr>
                  <p:spPr>
                    <a:xfrm rot="18135600">
                      <a:off x="8204760" y="4637880"/>
                      <a:ext cx="599760" cy="36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9403" h="839273">
                          <a:moveTo>
                            <a:pt x="0" y="839273"/>
                          </a:moveTo>
                          <a:cubicBezTo>
                            <a:pt x="23611" y="723363"/>
                            <a:pt x="47223" y="607453"/>
                            <a:pt x="103031" y="568816"/>
                          </a:cubicBezTo>
                          <a:cubicBezTo>
                            <a:pt x="158839" y="530179"/>
                            <a:pt x="281189" y="639650"/>
                            <a:pt x="334851" y="607453"/>
                          </a:cubicBezTo>
                          <a:cubicBezTo>
                            <a:pt x="388513" y="575256"/>
                            <a:pt x="364902" y="403537"/>
                            <a:pt x="425003" y="375633"/>
                          </a:cubicBezTo>
                          <a:cubicBezTo>
                            <a:pt x="485104" y="347729"/>
                            <a:pt x="637504" y="474372"/>
                            <a:pt x="695459" y="440028"/>
                          </a:cubicBezTo>
                          <a:cubicBezTo>
                            <a:pt x="753414" y="405684"/>
                            <a:pt x="710484" y="199622"/>
                            <a:pt x="772732" y="169571"/>
                          </a:cubicBezTo>
                          <a:cubicBezTo>
                            <a:pt x="834980" y="139520"/>
                            <a:pt x="1006698" y="283334"/>
                            <a:pt x="1068946" y="259723"/>
                          </a:cubicBezTo>
                          <a:cubicBezTo>
                            <a:pt x="1131194" y="236112"/>
                            <a:pt x="1101144" y="55808"/>
                            <a:pt x="1146220" y="27904"/>
                          </a:cubicBezTo>
                          <a:cubicBezTo>
                            <a:pt x="1191296" y="0"/>
                            <a:pt x="1311499" y="79419"/>
                            <a:pt x="1339403" y="92298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Oval 29"/>
                    <p:cNvSpPr/>
                    <p:nvPr/>
                  </p:nvSpPr>
                  <p:spPr>
                    <a:xfrm rot="18135600">
                      <a:off x="8462520" y="5153760"/>
                      <a:ext cx="123480" cy="117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9" name="Group 72"/>
                <p:cNvGrpSpPr/>
                <p:nvPr/>
              </p:nvGrpSpPr>
              <p:grpSpPr>
                <a:xfrm>
                  <a:off x="6201000" y="4343040"/>
                  <a:ext cx="235800" cy="139680"/>
                  <a:chOff x="6201000" y="4343040"/>
                  <a:chExt cx="235800" cy="139680"/>
                </a:xfrm>
              </p:grpSpPr>
              <p:sp>
                <p:nvSpPr>
                  <p:cNvPr id="460" name="Straight Connector 477"/>
                  <p:cNvSpPr/>
                  <p:nvPr/>
                </p:nvSpPr>
                <p:spPr>
                  <a:xfrm flipH="1" flipV="1">
                    <a:off x="6201000" y="4343040"/>
                    <a:ext cx="10944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Straight Connector 478"/>
                  <p:cNvSpPr/>
                  <p:nvPr/>
                </p:nvSpPr>
                <p:spPr>
                  <a:xfrm flipV="1">
                    <a:off x="6309720" y="4343040"/>
                    <a:ext cx="12708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73"/>
                <p:cNvGrpSpPr/>
                <p:nvPr/>
              </p:nvGrpSpPr>
              <p:grpSpPr>
                <a:xfrm>
                  <a:off x="6936120" y="4335120"/>
                  <a:ext cx="235800" cy="139680"/>
                  <a:chOff x="6936120" y="4335120"/>
                  <a:chExt cx="235800" cy="139680"/>
                </a:xfrm>
              </p:grpSpPr>
              <p:sp>
                <p:nvSpPr>
                  <p:cNvPr id="463" name="Straight Connector 475"/>
                  <p:cNvSpPr/>
                  <p:nvPr/>
                </p:nvSpPr>
                <p:spPr>
                  <a:xfrm flipH="1" flipV="1">
                    <a:off x="6936120" y="4335120"/>
                    <a:ext cx="10944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Straight Connector 476"/>
                  <p:cNvSpPr/>
                  <p:nvPr/>
                </p:nvSpPr>
                <p:spPr>
                  <a:xfrm flipV="1">
                    <a:off x="7044840" y="4335120"/>
                    <a:ext cx="12708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76"/>
                <p:cNvGrpSpPr/>
                <p:nvPr/>
              </p:nvGrpSpPr>
              <p:grpSpPr>
                <a:xfrm>
                  <a:off x="7301520" y="4343040"/>
                  <a:ext cx="235800" cy="139680"/>
                  <a:chOff x="7301520" y="4343040"/>
                  <a:chExt cx="235800" cy="139680"/>
                </a:xfrm>
              </p:grpSpPr>
              <p:sp>
                <p:nvSpPr>
                  <p:cNvPr id="466" name="Straight Connector 473"/>
                  <p:cNvSpPr/>
                  <p:nvPr/>
                </p:nvSpPr>
                <p:spPr>
                  <a:xfrm flipH="1" flipV="1">
                    <a:off x="7301520" y="4343040"/>
                    <a:ext cx="10944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Straight Connector 474"/>
                  <p:cNvSpPr/>
                  <p:nvPr/>
                </p:nvSpPr>
                <p:spPr>
                  <a:xfrm flipV="1">
                    <a:off x="7410240" y="4343040"/>
                    <a:ext cx="12708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79"/>
                <p:cNvGrpSpPr/>
                <p:nvPr/>
              </p:nvGrpSpPr>
              <p:grpSpPr>
                <a:xfrm>
                  <a:off x="8225280" y="4335120"/>
                  <a:ext cx="234720" cy="139680"/>
                  <a:chOff x="8225280" y="4335120"/>
                  <a:chExt cx="234720" cy="139680"/>
                </a:xfrm>
              </p:grpSpPr>
              <p:sp>
                <p:nvSpPr>
                  <p:cNvPr id="469" name="Straight Connector 471"/>
                  <p:cNvSpPr/>
                  <p:nvPr/>
                </p:nvSpPr>
                <p:spPr>
                  <a:xfrm flipH="1" flipV="1">
                    <a:off x="8225280" y="4335120"/>
                    <a:ext cx="10800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Straight Connector 472"/>
                  <p:cNvSpPr/>
                  <p:nvPr/>
                </p:nvSpPr>
                <p:spPr>
                  <a:xfrm flipV="1">
                    <a:off x="8333280" y="4335120"/>
                    <a:ext cx="126720" cy="1396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1" name="Isosceles Triangle 463"/>
              <p:cNvSpPr/>
              <p:nvPr/>
            </p:nvSpPr>
            <p:spPr>
              <a:xfrm rot="8103000">
                <a:off x="5886000" y="3617640"/>
                <a:ext cx="258480" cy="171360"/>
              </a:xfrm>
              <a:prstGeom prst="triangle">
                <a:avLst>
                  <a:gd name="adj" fmla="val 51394"/>
                </a:avLst>
              </a:prstGeom>
              <a:solidFill>
                <a:srgbClr val="0000cc"/>
              </a:solidFill>
              <a:ln w="255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rc 464"/>
              <p:cNvSpPr/>
              <p:nvPr/>
            </p:nvSpPr>
            <p:spPr>
              <a:xfrm>
                <a:off x="5338440" y="3685680"/>
                <a:ext cx="968400" cy="1211040"/>
              </a:xfrm>
              <a:custGeom>
                <a:avLst/>
                <a:gdLst/>
                <a:ahLst/>
                <a:rect l="l" t="t" r="r" b="b"/>
                <a:pathLst>
                  <a:path stroke="0" w="968301" h="1211500">
                    <a:moveTo>
                      <a:pt x="797725" y="144222"/>
                    </a:moveTo>
                    <a:cubicBezTo>
                      <a:pt x="905938" y="259314"/>
                      <a:pt x="968301" y="428051"/>
                      <a:pt x="968301" y="605750"/>
                    </a:cubicBezTo>
                    <a:lnTo>
                      <a:pt x="484151" y="605750"/>
                    </a:lnTo>
                    <a:lnTo>
                      <a:pt x="797725" y="144222"/>
                    </a:lnTo>
                    <a:close/>
                  </a:path>
                  <a:path fill="none" w="968301" h="1211500">
                    <a:moveTo>
                      <a:pt x="797725" y="144222"/>
                    </a:moveTo>
                    <a:cubicBezTo>
                      <a:pt x="905938" y="259314"/>
                      <a:pt x="968301" y="428051"/>
                      <a:pt x="968301" y="605750"/>
                    </a:cubicBezTo>
                  </a:path>
                </a:pathLst>
              </a:custGeom>
              <a:noFill/>
              <a:ln w="12600">
                <a:solidFill>
                  <a:srgbClr val="0000cc"/>
                </a:solidFill>
                <a:prstDash val="sysDash"/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Box 278"/>
              <p:cNvSpPr/>
              <p:nvPr/>
            </p:nvSpPr>
            <p:spPr>
              <a:xfrm>
                <a:off x="6657480" y="3967920"/>
                <a:ext cx="12870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Receptore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282"/>
            <p:cNvGrpSpPr/>
            <p:nvPr/>
          </p:nvGrpSpPr>
          <p:grpSpPr>
            <a:xfrm>
              <a:off x="196200" y="3289320"/>
              <a:ext cx="4053240" cy="3363840"/>
              <a:chOff x="196200" y="3289320"/>
              <a:chExt cx="4053240" cy="3363840"/>
            </a:xfrm>
          </p:grpSpPr>
          <p:grpSp>
            <p:nvGrpSpPr>
              <p:cNvPr id="475" name="Group 143"/>
              <p:cNvGrpSpPr/>
              <p:nvPr/>
            </p:nvGrpSpPr>
            <p:grpSpPr>
              <a:xfrm>
                <a:off x="1450080" y="3289320"/>
                <a:ext cx="2799360" cy="903240"/>
                <a:chOff x="1450080" y="3289320"/>
                <a:chExt cx="2799360" cy="903240"/>
              </a:xfrm>
            </p:grpSpPr>
            <p:grpSp>
              <p:nvGrpSpPr>
                <p:cNvPr id="476" name="Group 71"/>
                <p:cNvGrpSpPr/>
                <p:nvPr/>
              </p:nvGrpSpPr>
              <p:grpSpPr>
                <a:xfrm>
                  <a:off x="2710800" y="3355200"/>
                  <a:ext cx="422280" cy="485280"/>
                  <a:chOff x="2710800" y="3355200"/>
                  <a:chExt cx="422280" cy="485280"/>
                </a:xfrm>
              </p:grpSpPr>
              <p:sp>
                <p:nvSpPr>
                  <p:cNvPr id="477" name="Freeform 14"/>
                  <p:cNvSpPr/>
                  <p:nvPr/>
                </p:nvSpPr>
                <p:spPr>
                  <a:xfrm rot="20095800">
                    <a:off x="2739600" y="3469680"/>
                    <a:ext cx="3474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15"/>
                  <p:cNvSpPr/>
                  <p:nvPr/>
                </p:nvSpPr>
                <p:spPr>
                  <a:xfrm rot="20095800">
                    <a:off x="2778480" y="3761280"/>
                    <a:ext cx="669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Straight Connector 460"/>
                  <p:cNvSpPr/>
                  <p:nvPr/>
                </p:nvSpPr>
                <p:spPr>
                  <a:xfrm flipH="1" flipV="1">
                    <a:off x="3018600" y="3355200"/>
                    <a:ext cx="10800" cy="1008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Straight Connector 461"/>
                  <p:cNvSpPr/>
                  <p:nvPr/>
                </p:nvSpPr>
                <p:spPr>
                  <a:xfrm flipV="1">
                    <a:off x="3027960" y="3409920"/>
                    <a:ext cx="105120" cy="2844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82"/>
                <p:cNvGrpSpPr/>
                <p:nvPr/>
              </p:nvGrpSpPr>
              <p:grpSpPr>
                <a:xfrm>
                  <a:off x="2031840" y="3343680"/>
                  <a:ext cx="433080" cy="469440"/>
                  <a:chOff x="2031840" y="3343680"/>
                  <a:chExt cx="433080" cy="469440"/>
                </a:xfrm>
              </p:grpSpPr>
              <p:sp>
                <p:nvSpPr>
                  <p:cNvPr id="482" name="Freeform 14"/>
                  <p:cNvSpPr/>
                  <p:nvPr/>
                </p:nvSpPr>
                <p:spPr>
                  <a:xfrm rot="9598200">
                    <a:off x="2096640" y="3470760"/>
                    <a:ext cx="34164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15"/>
                  <p:cNvSpPr/>
                  <p:nvPr/>
                </p:nvSpPr>
                <p:spPr>
                  <a:xfrm rot="9598200">
                    <a:off x="2363760" y="3353760"/>
                    <a:ext cx="7020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Straight Connector 456"/>
                  <p:cNvSpPr/>
                  <p:nvPr/>
                </p:nvSpPr>
                <p:spPr>
                  <a:xfrm>
                    <a:off x="2140200" y="3709800"/>
                    <a:ext cx="360" cy="10332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Straight Connector 86"/>
                  <p:cNvSpPr/>
                  <p:nvPr/>
                </p:nvSpPr>
                <p:spPr>
                  <a:xfrm flipH="1">
                    <a:off x="2031840" y="3712320"/>
                    <a:ext cx="107640" cy="198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87"/>
                <p:cNvGrpSpPr/>
                <p:nvPr/>
              </p:nvGrpSpPr>
              <p:grpSpPr>
                <a:xfrm>
                  <a:off x="3578040" y="3333960"/>
                  <a:ext cx="495360" cy="414360"/>
                  <a:chOff x="3578040" y="3333960"/>
                  <a:chExt cx="495360" cy="414360"/>
                </a:xfrm>
              </p:grpSpPr>
              <p:sp>
                <p:nvSpPr>
                  <p:cNvPr id="487" name="Freeform 14"/>
                  <p:cNvSpPr/>
                  <p:nvPr/>
                </p:nvSpPr>
                <p:spPr>
                  <a:xfrm rot="14721600">
                    <a:off x="3675240" y="3447720"/>
                    <a:ext cx="32976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15"/>
                  <p:cNvSpPr/>
                  <p:nvPr/>
                </p:nvSpPr>
                <p:spPr>
                  <a:xfrm rot="14721600">
                    <a:off x="3994560" y="3633480"/>
                    <a:ext cx="6660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Straight Connector 90"/>
                  <p:cNvSpPr/>
                  <p:nvPr/>
                </p:nvSpPr>
                <p:spPr>
                  <a:xfrm flipH="1">
                    <a:off x="3578040" y="3436560"/>
                    <a:ext cx="101520" cy="972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Straight Connector 91"/>
                  <p:cNvSpPr/>
                  <p:nvPr/>
                </p:nvSpPr>
                <p:spPr>
                  <a:xfrm flipH="1" flipV="1">
                    <a:off x="3664800" y="3333960"/>
                    <a:ext cx="25920" cy="10404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Group 92"/>
                <p:cNvGrpSpPr/>
                <p:nvPr/>
              </p:nvGrpSpPr>
              <p:grpSpPr>
                <a:xfrm>
                  <a:off x="2206440" y="3852720"/>
                  <a:ext cx="546840" cy="337680"/>
                  <a:chOff x="2206440" y="3852720"/>
                  <a:chExt cx="546840" cy="337680"/>
                </a:xfrm>
              </p:grpSpPr>
              <p:sp>
                <p:nvSpPr>
                  <p:cNvPr id="492" name="Freeform 14"/>
                  <p:cNvSpPr/>
                  <p:nvPr/>
                </p:nvSpPr>
                <p:spPr>
                  <a:xfrm rot="12364200">
                    <a:off x="2307960" y="3916440"/>
                    <a:ext cx="34020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15"/>
                  <p:cNvSpPr/>
                  <p:nvPr/>
                </p:nvSpPr>
                <p:spPr>
                  <a:xfrm rot="12364200">
                    <a:off x="2670840" y="3954600"/>
                    <a:ext cx="7056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Straight Connector 95"/>
                  <p:cNvSpPr/>
                  <p:nvPr/>
                </p:nvSpPr>
                <p:spPr>
                  <a:xfrm flipH="1">
                    <a:off x="2216160" y="3999600"/>
                    <a:ext cx="75240" cy="702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Straight Connector 96"/>
                  <p:cNvSpPr/>
                  <p:nvPr/>
                </p:nvSpPr>
                <p:spPr>
                  <a:xfrm flipH="1" flipV="1">
                    <a:off x="2206440" y="3951720"/>
                    <a:ext cx="87840" cy="640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99"/>
                <p:cNvGrpSpPr/>
                <p:nvPr/>
              </p:nvGrpSpPr>
              <p:grpSpPr>
                <a:xfrm>
                  <a:off x="2939760" y="3698640"/>
                  <a:ext cx="357840" cy="337320"/>
                  <a:chOff x="2939760" y="3698640"/>
                  <a:chExt cx="357840" cy="337320"/>
                </a:xfrm>
              </p:grpSpPr>
              <p:sp>
                <p:nvSpPr>
                  <p:cNvPr id="497" name="Freeform 14"/>
                  <p:cNvSpPr/>
                  <p:nvPr/>
                </p:nvSpPr>
                <p:spPr>
                  <a:xfrm rot="10651200">
                    <a:off x="2943720" y="3819600"/>
                    <a:ext cx="33588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15"/>
                  <p:cNvSpPr/>
                  <p:nvPr/>
                </p:nvSpPr>
                <p:spPr>
                  <a:xfrm rot="10651200">
                    <a:off x="3227400" y="3700080"/>
                    <a:ext cx="687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104"/>
                <p:cNvGrpSpPr/>
                <p:nvPr/>
              </p:nvGrpSpPr>
              <p:grpSpPr>
                <a:xfrm>
                  <a:off x="2349360" y="3402720"/>
                  <a:ext cx="360000" cy="475560"/>
                  <a:chOff x="2349360" y="3402720"/>
                  <a:chExt cx="360000" cy="475560"/>
                </a:xfrm>
              </p:grpSpPr>
              <p:sp>
                <p:nvSpPr>
                  <p:cNvPr id="500" name="Freeform 14"/>
                  <p:cNvSpPr/>
                  <p:nvPr/>
                </p:nvSpPr>
                <p:spPr>
                  <a:xfrm rot="18135600">
                    <a:off x="2360160" y="3495960"/>
                    <a:ext cx="3380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15"/>
                  <p:cNvSpPr/>
                  <p:nvPr/>
                </p:nvSpPr>
                <p:spPr>
                  <a:xfrm rot="18135600">
                    <a:off x="2499840" y="3796200"/>
                    <a:ext cx="698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107"/>
                <p:cNvGrpSpPr/>
                <p:nvPr/>
              </p:nvGrpSpPr>
              <p:grpSpPr>
                <a:xfrm>
                  <a:off x="1730880" y="3574440"/>
                  <a:ext cx="361800" cy="478440"/>
                  <a:chOff x="1730880" y="3574440"/>
                  <a:chExt cx="361800" cy="478440"/>
                </a:xfrm>
              </p:grpSpPr>
              <p:sp>
                <p:nvSpPr>
                  <p:cNvPr id="503" name="Freeform 14"/>
                  <p:cNvSpPr/>
                  <p:nvPr/>
                </p:nvSpPr>
                <p:spPr>
                  <a:xfrm rot="18135600">
                    <a:off x="1740960" y="3669120"/>
                    <a:ext cx="3412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15"/>
                  <p:cNvSpPr/>
                  <p:nvPr/>
                </p:nvSpPr>
                <p:spPr>
                  <a:xfrm rot="18135600">
                    <a:off x="1882080" y="3970800"/>
                    <a:ext cx="698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110"/>
                <p:cNvGrpSpPr/>
                <p:nvPr/>
              </p:nvGrpSpPr>
              <p:grpSpPr>
                <a:xfrm>
                  <a:off x="3185640" y="3353760"/>
                  <a:ext cx="317520" cy="383040"/>
                  <a:chOff x="3185640" y="3353760"/>
                  <a:chExt cx="317520" cy="383040"/>
                </a:xfrm>
              </p:grpSpPr>
              <p:sp>
                <p:nvSpPr>
                  <p:cNvPr id="506" name="Freeform 14"/>
                  <p:cNvSpPr/>
                  <p:nvPr/>
                </p:nvSpPr>
                <p:spPr>
                  <a:xfrm rot="5125200">
                    <a:off x="3222360" y="3460680"/>
                    <a:ext cx="3236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15"/>
                  <p:cNvSpPr/>
                  <p:nvPr/>
                </p:nvSpPr>
                <p:spPr>
                  <a:xfrm rot="5125200">
                    <a:off x="3188880" y="3355200"/>
                    <a:ext cx="6588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Group 113"/>
                <p:cNvGrpSpPr/>
                <p:nvPr/>
              </p:nvGrpSpPr>
              <p:grpSpPr>
                <a:xfrm>
                  <a:off x="3471840" y="3566160"/>
                  <a:ext cx="360000" cy="475560"/>
                  <a:chOff x="3471840" y="3566160"/>
                  <a:chExt cx="360000" cy="475560"/>
                </a:xfrm>
              </p:grpSpPr>
              <p:sp>
                <p:nvSpPr>
                  <p:cNvPr id="509" name="Freeform 14"/>
                  <p:cNvSpPr/>
                  <p:nvPr/>
                </p:nvSpPr>
                <p:spPr>
                  <a:xfrm rot="18135600">
                    <a:off x="3482640" y="3659400"/>
                    <a:ext cx="3380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Oval 15"/>
                  <p:cNvSpPr/>
                  <p:nvPr/>
                </p:nvSpPr>
                <p:spPr>
                  <a:xfrm rot="18135600">
                    <a:off x="3622320" y="3959640"/>
                    <a:ext cx="698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116"/>
                <p:cNvGrpSpPr/>
                <p:nvPr/>
              </p:nvGrpSpPr>
              <p:grpSpPr>
                <a:xfrm>
                  <a:off x="1762560" y="3311280"/>
                  <a:ext cx="397080" cy="310320"/>
                  <a:chOff x="1762560" y="3311280"/>
                  <a:chExt cx="397080" cy="310320"/>
                </a:xfrm>
              </p:grpSpPr>
              <p:sp>
                <p:nvSpPr>
                  <p:cNvPr id="512" name="Freeform 14"/>
                  <p:cNvSpPr/>
                  <p:nvPr/>
                </p:nvSpPr>
                <p:spPr>
                  <a:xfrm rot="21379800">
                    <a:off x="1768680" y="3323160"/>
                    <a:ext cx="384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Oval 15"/>
                  <p:cNvSpPr/>
                  <p:nvPr/>
                </p:nvSpPr>
                <p:spPr>
                  <a:xfrm rot="21379800">
                    <a:off x="1789560" y="3550680"/>
                    <a:ext cx="799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Group 133"/>
                <p:cNvGrpSpPr/>
                <p:nvPr/>
              </p:nvGrpSpPr>
              <p:grpSpPr>
                <a:xfrm>
                  <a:off x="1450080" y="3289320"/>
                  <a:ext cx="2784240" cy="903240"/>
                  <a:chOff x="1450080" y="3289320"/>
                  <a:chExt cx="2784240" cy="903240"/>
                </a:xfrm>
              </p:grpSpPr>
              <p:sp>
                <p:nvSpPr>
                  <p:cNvPr id="515" name="Straight Connector 429"/>
                  <p:cNvSpPr/>
                  <p:nvPr/>
                </p:nvSpPr>
                <p:spPr>
                  <a:xfrm>
                    <a:off x="1450080" y="3289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Arc 430"/>
                  <p:cNvSpPr/>
                  <p:nvPr/>
                </p:nvSpPr>
                <p:spPr>
                  <a:xfrm>
                    <a:off x="1450080" y="3368520"/>
                    <a:ext cx="823680" cy="82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7" h="913874">
                        <a:moveTo>
                          <a:pt x="458213" y="913874"/>
                        </a:moveTo>
                        <a:cubicBezTo>
                          <a:pt x="336368" y="914012"/>
                          <a:pt x="219497" y="865641"/>
                          <a:pt x="133490" y="779475"/>
                        </a:cubicBezTo>
                        <a:cubicBezTo>
                          <a:pt x="47296" y="693123"/>
                          <a:pt x="-760" y="575964"/>
                          <a:pt x="9" y="454059"/>
                        </a:cubicBezTo>
                        <a:lnTo>
                          <a:pt x="457694" y="456937"/>
                        </a:lnTo>
                        <a:lnTo>
                          <a:pt x="458213" y="913874"/>
                        </a:lnTo>
                        <a:close/>
                      </a:path>
                      <a:path fill="none" w="915387" h="913874">
                        <a:moveTo>
                          <a:pt x="458213" y="913874"/>
                        </a:moveTo>
                        <a:cubicBezTo>
                          <a:pt x="336368" y="914012"/>
                          <a:pt x="219497" y="865641"/>
                          <a:pt x="133490" y="779475"/>
                        </a:cubicBezTo>
                        <a:cubicBezTo>
                          <a:pt x="47296" y="693123"/>
                          <a:pt x="-760" y="575964"/>
                          <a:pt x="9" y="454059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Straight Connector 431"/>
                  <p:cNvSpPr/>
                  <p:nvPr/>
                </p:nvSpPr>
                <p:spPr>
                  <a:xfrm>
                    <a:off x="4234320" y="3289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Straight Connector 432"/>
                  <p:cNvSpPr/>
                  <p:nvPr/>
                </p:nvSpPr>
                <p:spPr>
                  <a:xfrm>
                    <a:off x="1857960" y="4191120"/>
                    <a:ext cx="1976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Arc 433"/>
                  <p:cNvSpPr/>
                  <p:nvPr/>
                </p:nvSpPr>
                <p:spPr>
                  <a:xfrm>
                    <a:off x="3410640" y="3368520"/>
                    <a:ext cx="823680" cy="82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8" h="915639">
                        <a:moveTo>
                          <a:pt x="915381" y="455250"/>
                        </a:moveTo>
                        <a:cubicBezTo>
                          <a:pt x="916065" y="577091"/>
                          <a:pt x="868165" y="694179"/>
                          <a:pt x="782287" y="780589"/>
                        </a:cubicBezTo>
                        <a:cubicBezTo>
                          <a:pt x="696378" y="867030"/>
                          <a:pt x="579556" y="915637"/>
                          <a:pt x="457703" y="915639"/>
                        </a:cubicBezTo>
                        <a:cubicBezTo>
                          <a:pt x="457700" y="763033"/>
                          <a:pt x="457697" y="610426"/>
                          <a:pt x="457694" y="457820"/>
                        </a:cubicBezTo>
                        <a:lnTo>
                          <a:pt x="915381" y="455250"/>
                        </a:lnTo>
                        <a:close/>
                      </a:path>
                      <a:path fill="none" w="915388" h="915639">
                        <a:moveTo>
                          <a:pt x="915381" y="455250"/>
                        </a:moveTo>
                        <a:cubicBezTo>
                          <a:pt x="916065" y="577091"/>
                          <a:pt x="868165" y="694179"/>
                          <a:pt x="782287" y="780589"/>
                        </a:cubicBezTo>
                        <a:cubicBezTo>
                          <a:pt x="696378" y="867030"/>
                          <a:pt x="579556" y="915637"/>
                          <a:pt x="457703" y="915639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134"/>
                <p:cNvGrpSpPr/>
                <p:nvPr/>
              </p:nvGrpSpPr>
              <p:grpSpPr>
                <a:xfrm>
                  <a:off x="1499760" y="3384000"/>
                  <a:ext cx="277920" cy="439200"/>
                  <a:chOff x="1499760" y="3384000"/>
                  <a:chExt cx="277920" cy="439200"/>
                </a:xfrm>
              </p:grpSpPr>
              <p:sp>
                <p:nvSpPr>
                  <p:cNvPr id="521" name="Freeform 14"/>
                  <p:cNvSpPr/>
                  <p:nvPr/>
                </p:nvSpPr>
                <p:spPr>
                  <a:xfrm rot="6076200">
                    <a:off x="1456920" y="3518640"/>
                    <a:ext cx="36324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5"/>
                  <p:cNvSpPr/>
                  <p:nvPr/>
                </p:nvSpPr>
                <p:spPr>
                  <a:xfrm rot="6076200">
                    <a:off x="1515960" y="3393000"/>
                    <a:ext cx="741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Group 137"/>
                <p:cNvGrpSpPr/>
                <p:nvPr/>
              </p:nvGrpSpPr>
              <p:grpSpPr>
                <a:xfrm>
                  <a:off x="3746880" y="3870360"/>
                  <a:ext cx="397080" cy="310320"/>
                  <a:chOff x="3746880" y="3870360"/>
                  <a:chExt cx="397080" cy="310320"/>
                </a:xfrm>
              </p:grpSpPr>
              <p:sp>
                <p:nvSpPr>
                  <p:cNvPr id="524" name="Freeform 14"/>
                  <p:cNvSpPr/>
                  <p:nvPr/>
                </p:nvSpPr>
                <p:spPr>
                  <a:xfrm rot="21379800">
                    <a:off x="3753000" y="3882240"/>
                    <a:ext cx="3841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Oval 15"/>
                  <p:cNvSpPr/>
                  <p:nvPr/>
                </p:nvSpPr>
                <p:spPr>
                  <a:xfrm rot="21379800">
                    <a:off x="3773880" y="4109760"/>
                    <a:ext cx="799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140"/>
                <p:cNvGrpSpPr/>
                <p:nvPr/>
              </p:nvGrpSpPr>
              <p:grpSpPr>
                <a:xfrm>
                  <a:off x="3965760" y="3317400"/>
                  <a:ext cx="283680" cy="448920"/>
                  <a:chOff x="3965760" y="3317400"/>
                  <a:chExt cx="283680" cy="448920"/>
                </a:xfrm>
              </p:grpSpPr>
              <p:sp>
                <p:nvSpPr>
                  <p:cNvPr id="527" name="Freeform 14"/>
                  <p:cNvSpPr/>
                  <p:nvPr/>
                </p:nvSpPr>
                <p:spPr>
                  <a:xfrm rot="6076200">
                    <a:off x="3919320" y="3453480"/>
                    <a:ext cx="3762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Oval 15"/>
                  <p:cNvSpPr/>
                  <p:nvPr/>
                </p:nvSpPr>
                <p:spPr>
                  <a:xfrm rot="6076200">
                    <a:off x="4004640" y="3328200"/>
                    <a:ext cx="7848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Group 204"/>
              <p:cNvGrpSpPr/>
              <p:nvPr/>
            </p:nvGrpSpPr>
            <p:grpSpPr>
              <a:xfrm>
                <a:off x="1450080" y="4540320"/>
                <a:ext cx="2784240" cy="903240"/>
                <a:chOff x="1450080" y="4540320"/>
                <a:chExt cx="2784240" cy="903240"/>
              </a:xfrm>
            </p:grpSpPr>
            <p:sp>
              <p:nvSpPr>
                <p:cNvPr id="530" name="Rectangle 355"/>
                <p:cNvSpPr/>
                <p:nvPr/>
              </p:nvSpPr>
              <p:spPr>
                <a:xfrm>
                  <a:off x="1936800" y="5297760"/>
                  <a:ext cx="1811160" cy="8244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71"/>
                <p:cNvGrpSpPr/>
                <p:nvPr/>
              </p:nvGrpSpPr>
              <p:grpSpPr>
                <a:xfrm>
                  <a:off x="2341440" y="4712040"/>
                  <a:ext cx="435600" cy="492840"/>
                  <a:chOff x="2341440" y="4712040"/>
                  <a:chExt cx="435600" cy="492840"/>
                </a:xfrm>
              </p:grpSpPr>
              <p:sp>
                <p:nvSpPr>
                  <p:cNvPr id="532" name="Freeform 14"/>
                  <p:cNvSpPr/>
                  <p:nvPr/>
                </p:nvSpPr>
                <p:spPr>
                  <a:xfrm rot="20095800">
                    <a:off x="2369880" y="4843080"/>
                    <a:ext cx="35856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Oval 15"/>
                  <p:cNvSpPr/>
                  <p:nvPr/>
                </p:nvSpPr>
                <p:spPr>
                  <a:xfrm rot="20095800">
                    <a:off x="2407680" y="5124960"/>
                    <a:ext cx="7056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Straight Connector 407"/>
                  <p:cNvSpPr/>
                  <p:nvPr/>
                </p:nvSpPr>
                <p:spPr>
                  <a:xfrm flipH="1" flipV="1">
                    <a:off x="2663280" y="4712040"/>
                    <a:ext cx="8280" cy="1044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Straight Connector 408"/>
                  <p:cNvSpPr/>
                  <p:nvPr/>
                </p:nvSpPr>
                <p:spPr>
                  <a:xfrm flipV="1">
                    <a:off x="2671560" y="4783320"/>
                    <a:ext cx="105480" cy="2916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Group 82"/>
                <p:cNvGrpSpPr/>
                <p:nvPr/>
              </p:nvGrpSpPr>
              <p:grpSpPr>
                <a:xfrm>
                  <a:off x="3141000" y="4568040"/>
                  <a:ext cx="432000" cy="470880"/>
                  <a:chOff x="3141000" y="4568040"/>
                  <a:chExt cx="432000" cy="470880"/>
                </a:xfrm>
              </p:grpSpPr>
              <p:sp>
                <p:nvSpPr>
                  <p:cNvPr id="537" name="Freeform 14"/>
                  <p:cNvSpPr/>
                  <p:nvPr/>
                </p:nvSpPr>
                <p:spPr>
                  <a:xfrm rot="9598200">
                    <a:off x="3243240" y="4760280"/>
                    <a:ext cx="3121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Oval 15"/>
                  <p:cNvSpPr/>
                  <p:nvPr/>
                </p:nvSpPr>
                <p:spPr>
                  <a:xfrm rot="9598200">
                    <a:off x="3469320" y="4577400"/>
                    <a:ext cx="64440" cy="50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Straight Connector 403"/>
                  <p:cNvSpPr/>
                  <p:nvPr/>
                </p:nvSpPr>
                <p:spPr>
                  <a:xfrm flipH="1">
                    <a:off x="3247200" y="4951440"/>
                    <a:ext cx="8640" cy="8748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Straight Connector 404"/>
                  <p:cNvSpPr/>
                  <p:nvPr/>
                </p:nvSpPr>
                <p:spPr>
                  <a:xfrm flipH="1">
                    <a:off x="3141000" y="4926600"/>
                    <a:ext cx="92880" cy="2952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Group 87"/>
                <p:cNvGrpSpPr/>
                <p:nvPr/>
              </p:nvGrpSpPr>
              <p:grpSpPr>
                <a:xfrm>
                  <a:off x="3682800" y="4687920"/>
                  <a:ext cx="406800" cy="476640"/>
                  <a:chOff x="3682800" y="4687920"/>
                  <a:chExt cx="406800" cy="476640"/>
                </a:xfrm>
              </p:grpSpPr>
              <p:sp>
                <p:nvSpPr>
                  <p:cNvPr id="542" name="Freeform 14"/>
                  <p:cNvSpPr/>
                  <p:nvPr/>
                </p:nvSpPr>
                <p:spPr>
                  <a:xfrm rot="15652200">
                    <a:off x="3727080" y="4860360"/>
                    <a:ext cx="36648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5"/>
                  <p:cNvSpPr/>
                  <p:nvPr/>
                </p:nvSpPr>
                <p:spPr>
                  <a:xfrm rot="15652200">
                    <a:off x="4011840" y="5075640"/>
                    <a:ext cx="7560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Straight Connector 399"/>
                  <p:cNvSpPr/>
                  <p:nvPr/>
                </p:nvSpPr>
                <p:spPr>
                  <a:xfrm flipH="1" flipV="1">
                    <a:off x="3682800" y="4778280"/>
                    <a:ext cx="105480" cy="2376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Straight Connector 400"/>
                  <p:cNvSpPr/>
                  <p:nvPr/>
                </p:nvSpPr>
                <p:spPr>
                  <a:xfrm flipH="1" flipV="1">
                    <a:off x="3786120" y="4687920"/>
                    <a:ext cx="4320" cy="1152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Group 92"/>
                <p:cNvGrpSpPr/>
                <p:nvPr/>
              </p:nvGrpSpPr>
              <p:grpSpPr>
                <a:xfrm>
                  <a:off x="2135160" y="4762800"/>
                  <a:ext cx="366120" cy="540000"/>
                  <a:chOff x="2135160" y="4762800"/>
                  <a:chExt cx="366120" cy="540000"/>
                </a:xfrm>
              </p:grpSpPr>
              <p:sp>
                <p:nvSpPr>
                  <p:cNvPr id="547" name="Freeform 14"/>
                  <p:cNvSpPr/>
                  <p:nvPr/>
                </p:nvSpPr>
                <p:spPr>
                  <a:xfrm rot="18382200">
                    <a:off x="2139480" y="4917240"/>
                    <a:ext cx="35712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Oval 15"/>
                  <p:cNvSpPr/>
                  <p:nvPr/>
                </p:nvSpPr>
                <p:spPr>
                  <a:xfrm rot="18382200">
                    <a:off x="2270520" y="5223960"/>
                    <a:ext cx="74160" cy="6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Straight Connector 395"/>
                  <p:cNvSpPr/>
                  <p:nvPr/>
                </p:nvSpPr>
                <p:spPr>
                  <a:xfrm flipH="1" flipV="1">
                    <a:off x="2329560" y="4762800"/>
                    <a:ext cx="50760" cy="9000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Straight Connector 396"/>
                  <p:cNvSpPr/>
                  <p:nvPr/>
                </p:nvSpPr>
                <p:spPr>
                  <a:xfrm flipV="1">
                    <a:off x="2379960" y="4771800"/>
                    <a:ext cx="72000" cy="79560"/>
                  </a:xfrm>
                  <a:prstGeom prst="line">
                    <a:avLst/>
                  </a:prstGeom>
                  <a:ln cap="sq" w="25560">
                    <a:solidFill>
                      <a:srgbClr val="0000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Group 99"/>
                <p:cNvGrpSpPr/>
                <p:nvPr/>
              </p:nvGrpSpPr>
              <p:grpSpPr>
                <a:xfrm>
                  <a:off x="2577240" y="4923000"/>
                  <a:ext cx="369000" cy="384120"/>
                  <a:chOff x="2577240" y="4923000"/>
                  <a:chExt cx="369000" cy="384120"/>
                </a:xfrm>
              </p:grpSpPr>
              <p:sp>
                <p:nvSpPr>
                  <p:cNvPr id="552" name="Freeform 14"/>
                  <p:cNvSpPr/>
                  <p:nvPr/>
                </p:nvSpPr>
                <p:spPr>
                  <a:xfrm rot="15164400">
                    <a:off x="2558880" y="5010120"/>
                    <a:ext cx="3369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Oval 15"/>
                  <p:cNvSpPr/>
                  <p:nvPr/>
                </p:nvSpPr>
                <p:spPr>
                  <a:xfrm rot="15164400">
                    <a:off x="2868840" y="5228640"/>
                    <a:ext cx="6768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104"/>
                <p:cNvGrpSpPr/>
                <p:nvPr/>
              </p:nvGrpSpPr>
              <p:grpSpPr>
                <a:xfrm>
                  <a:off x="2474280" y="4924080"/>
                  <a:ext cx="388440" cy="376200"/>
                  <a:chOff x="2474280" y="4924080"/>
                  <a:chExt cx="388440" cy="376200"/>
                </a:xfrm>
              </p:grpSpPr>
              <p:sp>
                <p:nvSpPr>
                  <p:cNvPr id="555" name="Freeform 14"/>
                  <p:cNvSpPr/>
                  <p:nvPr/>
                </p:nvSpPr>
                <p:spPr>
                  <a:xfrm rot="20487600">
                    <a:off x="2499480" y="4971960"/>
                    <a:ext cx="33768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15"/>
                  <p:cNvSpPr/>
                  <p:nvPr/>
                </p:nvSpPr>
                <p:spPr>
                  <a:xfrm rot="20487600">
                    <a:off x="2496600" y="5223240"/>
                    <a:ext cx="662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Group 107"/>
                <p:cNvGrpSpPr/>
                <p:nvPr/>
              </p:nvGrpSpPr>
              <p:grpSpPr>
                <a:xfrm>
                  <a:off x="1939680" y="4908240"/>
                  <a:ext cx="419760" cy="393480"/>
                  <a:chOff x="1939680" y="4908240"/>
                  <a:chExt cx="419760" cy="393480"/>
                </a:xfrm>
              </p:grpSpPr>
              <p:sp>
                <p:nvSpPr>
                  <p:cNvPr id="558" name="Freeform 14"/>
                  <p:cNvSpPr/>
                  <p:nvPr/>
                </p:nvSpPr>
                <p:spPr>
                  <a:xfrm rot="20308200">
                    <a:off x="1965960" y="4968000"/>
                    <a:ext cx="36684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Oval 15"/>
                  <p:cNvSpPr/>
                  <p:nvPr/>
                </p:nvSpPr>
                <p:spPr>
                  <a:xfrm rot="20308200">
                    <a:off x="1997640" y="5222160"/>
                    <a:ext cx="745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Group 110"/>
                <p:cNvGrpSpPr/>
                <p:nvPr/>
              </p:nvGrpSpPr>
              <p:grpSpPr>
                <a:xfrm>
                  <a:off x="2849040" y="4629960"/>
                  <a:ext cx="456480" cy="315000"/>
                  <a:chOff x="2849040" y="4629960"/>
                  <a:chExt cx="456480" cy="315000"/>
                </a:xfrm>
              </p:grpSpPr>
              <p:sp>
                <p:nvSpPr>
                  <p:cNvPr id="561" name="Freeform 14"/>
                  <p:cNvSpPr/>
                  <p:nvPr/>
                </p:nvSpPr>
                <p:spPr>
                  <a:xfrm rot="1147800">
                    <a:off x="2936520" y="4680000"/>
                    <a:ext cx="34344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Oval 15"/>
                  <p:cNvSpPr/>
                  <p:nvPr/>
                </p:nvSpPr>
                <p:spPr>
                  <a:xfrm rot="1147800">
                    <a:off x="2858040" y="4808160"/>
                    <a:ext cx="7272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Group 113"/>
                <p:cNvGrpSpPr/>
                <p:nvPr/>
              </p:nvGrpSpPr>
              <p:grpSpPr>
                <a:xfrm>
                  <a:off x="2922840" y="4916520"/>
                  <a:ext cx="318960" cy="387360"/>
                  <a:chOff x="2922840" y="4916520"/>
                  <a:chExt cx="318960" cy="387360"/>
                </a:xfrm>
              </p:grpSpPr>
              <p:sp>
                <p:nvSpPr>
                  <p:cNvPr id="564" name="Freeform 14"/>
                  <p:cNvSpPr/>
                  <p:nvPr/>
                </p:nvSpPr>
                <p:spPr>
                  <a:xfrm rot="15785400">
                    <a:off x="2881440" y="4988520"/>
                    <a:ext cx="33372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Oval 15"/>
                  <p:cNvSpPr/>
                  <p:nvPr/>
                </p:nvSpPr>
                <p:spPr>
                  <a:xfrm rot="15785400">
                    <a:off x="3168000" y="5230440"/>
                    <a:ext cx="6912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Group 116"/>
                <p:cNvGrpSpPr/>
                <p:nvPr/>
              </p:nvGrpSpPr>
              <p:grpSpPr>
                <a:xfrm>
                  <a:off x="1805400" y="4696200"/>
                  <a:ext cx="403920" cy="281880"/>
                  <a:chOff x="1805400" y="4696200"/>
                  <a:chExt cx="403920" cy="281880"/>
                </a:xfrm>
              </p:grpSpPr>
              <p:sp>
                <p:nvSpPr>
                  <p:cNvPr id="567" name="Freeform 14"/>
                  <p:cNvSpPr/>
                  <p:nvPr/>
                </p:nvSpPr>
                <p:spPr>
                  <a:xfrm rot="21379800">
                    <a:off x="1868760" y="4706280"/>
                    <a:ext cx="3337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Oval 15"/>
                  <p:cNvSpPr/>
                  <p:nvPr/>
                </p:nvSpPr>
                <p:spPr>
                  <a:xfrm rot="21379800">
                    <a:off x="1807200" y="4907520"/>
                    <a:ext cx="6588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133"/>
                <p:cNvGrpSpPr/>
                <p:nvPr/>
              </p:nvGrpSpPr>
              <p:grpSpPr>
                <a:xfrm>
                  <a:off x="1450080" y="4540320"/>
                  <a:ext cx="2784240" cy="903240"/>
                  <a:chOff x="1450080" y="4540320"/>
                  <a:chExt cx="2784240" cy="903240"/>
                </a:xfrm>
              </p:grpSpPr>
              <p:sp>
                <p:nvSpPr>
                  <p:cNvPr id="570" name="Straight Connector 376"/>
                  <p:cNvSpPr/>
                  <p:nvPr/>
                </p:nvSpPr>
                <p:spPr>
                  <a:xfrm>
                    <a:off x="1450080" y="4540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Arc 377"/>
                  <p:cNvSpPr/>
                  <p:nvPr/>
                </p:nvSpPr>
                <p:spPr>
                  <a:xfrm>
                    <a:off x="1450080" y="4619520"/>
                    <a:ext cx="823680" cy="82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  <a:lnTo>
                          <a:pt x="457694" y="456936"/>
                        </a:lnTo>
                        <a:lnTo>
                          <a:pt x="458213" y="913872"/>
                        </a:lnTo>
                        <a:close/>
                      </a:path>
                      <a:path fill="none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Straight Connector 378"/>
                  <p:cNvSpPr/>
                  <p:nvPr/>
                </p:nvSpPr>
                <p:spPr>
                  <a:xfrm>
                    <a:off x="4234320" y="45403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Straight Connector 379"/>
                  <p:cNvSpPr/>
                  <p:nvPr/>
                </p:nvSpPr>
                <p:spPr>
                  <a:xfrm>
                    <a:off x="1857960" y="5442120"/>
                    <a:ext cx="1976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Arc 380"/>
                  <p:cNvSpPr/>
                  <p:nvPr/>
                </p:nvSpPr>
                <p:spPr>
                  <a:xfrm>
                    <a:off x="3410640" y="4619520"/>
                    <a:ext cx="823680" cy="82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  <a:cubicBezTo>
                          <a:pt x="457700" y="763031"/>
                          <a:pt x="457698" y="610425"/>
                          <a:pt x="457695" y="457819"/>
                        </a:cubicBezTo>
                        <a:lnTo>
                          <a:pt x="915382" y="455249"/>
                        </a:lnTo>
                        <a:close/>
                      </a:path>
                      <a:path fill="none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Group 134"/>
                <p:cNvGrpSpPr/>
                <p:nvPr/>
              </p:nvGrpSpPr>
              <p:grpSpPr>
                <a:xfrm>
                  <a:off x="1460520" y="4795200"/>
                  <a:ext cx="315360" cy="422640"/>
                  <a:chOff x="1460520" y="4795200"/>
                  <a:chExt cx="315360" cy="422640"/>
                </a:xfrm>
              </p:grpSpPr>
              <p:sp>
                <p:nvSpPr>
                  <p:cNvPr id="576" name="Freeform 14"/>
                  <p:cNvSpPr/>
                  <p:nvPr/>
                </p:nvSpPr>
                <p:spPr>
                  <a:xfrm rot="6076200">
                    <a:off x="1477440" y="4931280"/>
                    <a:ext cx="32472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5"/>
                  <p:cNvSpPr/>
                  <p:nvPr/>
                </p:nvSpPr>
                <p:spPr>
                  <a:xfrm rot="6076200">
                    <a:off x="1464840" y="4802760"/>
                    <a:ext cx="716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Group 137"/>
                <p:cNvGrpSpPr/>
                <p:nvPr/>
              </p:nvGrpSpPr>
              <p:grpSpPr>
                <a:xfrm>
                  <a:off x="3404880" y="5016240"/>
                  <a:ext cx="394200" cy="286560"/>
                  <a:chOff x="3404880" y="5016240"/>
                  <a:chExt cx="394200" cy="286560"/>
                </a:xfrm>
              </p:grpSpPr>
              <p:sp>
                <p:nvSpPr>
                  <p:cNvPr id="579" name="Freeform 14"/>
                  <p:cNvSpPr/>
                  <p:nvPr/>
                </p:nvSpPr>
                <p:spPr>
                  <a:xfrm rot="21379800">
                    <a:off x="3444120" y="5027040"/>
                    <a:ext cx="3481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Oval 15"/>
                  <p:cNvSpPr/>
                  <p:nvPr/>
                </p:nvSpPr>
                <p:spPr>
                  <a:xfrm rot="21379800">
                    <a:off x="3407040" y="5230440"/>
                    <a:ext cx="71280" cy="69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140"/>
                <p:cNvGrpSpPr/>
                <p:nvPr/>
              </p:nvGrpSpPr>
              <p:grpSpPr>
                <a:xfrm>
                  <a:off x="3762360" y="4597560"/>
                  <a:ext cx="375120" cy="349200"/>
                  <a:chOff x="3762360" y="4597560"/>
                  <a:chExt cx="375120" cy="349200"/>
                </a:xfrm>
              </p:grpSpPr>
              <p:sp>
                <p:nvSpPr>
                  <p:cNvPr id="582" name="Freeform 14"/>
                  <p:cNvSpPr/>
                  <p:nvPr/>
                </p:nvSpPr>
                <p:spPr>
                  <a:xfrm rot="4843800">
                    <a:off x="3847680" y="4665960"/>
                    <a:ext cx="3182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9403" h="839273">
                        <a:moveTo>
                          <a:pt x="0" y="839273"/>
                        </a:moveTo>
                        <a:cubicBezTo>
                          <a:pt x="23611" y="723363"/>
                          <a:pt x="47223" y="607453"/>
                          <a:pt x="103031" y="568816"/>
                        </a:cubicBezTo>
                        <a:cubicBezTo>
                          <a:pt x="158839" y="530179"/>
                          <a:pt x="281189" y="639650"/>
                          <a:pt x="334851" y="607453"/>
                        </a:cubicBezTo>
                        <a:cubicBezTo>
                          <a:pt x="388513" y="575256"/>
                          <a:pt x="364902" y="403537"/>
                          <a:pt x="425003" y="375633"/>
                        </a:cubicBezTo>
                        <a:cubicBezTo>
                          <a:pt x="485104" y="347729"/>
                          <a:pt x="637504" y="474372"/>
                          <a:pt x="695459" y="440028"/>
                        </a:cubicBezTo>
                        <a:cubicBezTo>
                          <a:pt x="753414" y="405684"/>
                          <a:pt x="710484" y="199622"/>
                          <a:pt x="772732" y="169571"/>
                        </a:cubicBezTo>
                        <a:cubicBezTo>
                          <a:pt x="834980" y="139520"/>
                          <a:pt x="1006698" y="283334"/>
                          <a:pt x="1068946" y="259723"/>
                        </a:cubicBezTo>
                        <a:cubicBezTo>
                          <a:pt x="1131194" y="236112"/>
                          <a:pt x="1101144" y="55808"/>
                          <a:pt x="1146220" y="27904"/>
                        </a:cubicBezTo>
                        <a:cubicBezTo>
                          <a:pt x="1191296" y="0"/>
                          <a:pt x="1311499" y="79419"/>
                          <a:pt x="1339403" y="9229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Oval 15"/>
                  <p:cNvSpPr/>
                  <p:nvPr/>
                </p:nvSpPr>
                <p:spPr>
                  <a:xfrm rot="4843800">
                    <a:off x="3768120" y="4601520"/>
                    <a:ext cx="66240" cy="68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Group 274"/>
              <p:cNvGrpSpPr/>
              <p:nvPr/>
            </p:nvGrpSpPr>
            <p:grpSpPr>
              <a:xfrm>
                <a:off x="1450080" y="5749920"/>
                <a:ext cx="2784240" cy="903240"/>
                <a:chOff x="1450080" y="5749920"/>
                <a:chExt cx="2784240" cy="903240"/>
              </a:xfrm>
            </p:grpSpPr>
            <p:grpSp>
              <p:nvGrpSpPr>
                <p:cNvPr id="585" name="Group 133"/>
                <p:cNvGrpSpPr/>
                <p:nvPr/>
              </p:nvGrpSpPr>
              <p:grpSpPr>
                <a:xfrm>
                  <a:off x="1450080" y="5749920"/>
                  <a:ext cx="2784240" cy="903240"/>
                  <a:chOff x="1450080" y="5749920"/>
                  <a:chExt cx="2784240" cy="903240"/>
                </a:xfrm>
              </p:grpSpPr>
              <p:sp>
                <p:nvSpPr>
                  <p:cNvPr id="586" name="Straight Connector 350"/>
                  <p:cNvSpPr/>
                  <p:nvPr/>
                </p:nvSpPr>
                <p:spPr>
                  <a:xfrm>
                    <a:off x="1450080" y="57499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Arc 351"/>
                  <p:cNvSpPr/>
                  <p:nvPr/>
                </p:nvSpPr>
                <p:spPr>
                  <a:xfrm>
                    <a:off x="1450080" y="5829120"/>
                    <a:ext cx="823680" cy="82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  <a:lnTo>
                          <a:pt x="457694" y="456936"/>
                        </a:lnTo>
                        <a:lnTo>
                          <a:pt x="458213" y="913872"/>
                        </a:lnTo>
                        <a:close/>
                      </a:path>
                      <a:path fill="none" w="915388" h="913872">
                        <a:moveTo>
                          <a:pt x="458213" y="913872"/>
                        </a:moveTo>
                        <a:cubicBezTo>
                          <a:pt x="336368" y="914010"/>
                          <a:pt x="219497" y="865639"/>
                          <a:pt x="133490" y="779474"/>
                        </a:cubicBezTo>
                        <a:cubicBezTo>
                          <a:pt x="47296" y="693122"/>
                          <a:pt x="-761" y="575964"/>
                          <a:pt x="9" y="45405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Straight Connector 352"/>
                  <p:cNvSpPr/>
                  <p:nvPr/>
                </p:nvSpPr>
                <p:spPr>
                  <a:xfrm>
                    <a:off x="4234320" y="5749920"/>
                    <a:ext cx="0" cy="493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Straight Connector 353"/>
                  <p:cNvSpPr/>
                  <p:nvPr/>
                </p:nvSpPr>
                <p:spPr>
                  <a:xfrm>
                    <a:off x="1857960" y="6651720"/>
                    <a:ext cx="1976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Arc 354"/>
                  <p:cNvSpPr/>
                  <p:nvPr/>
                </p:nvSpPr>
                <p:spPr>
                  <a:xfrm>
                    <a:off x="3410640" y="5829120"/>
                    <a:ext cx="823680" cy="82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  <a:cubicBezTo>
                          <a:pt x="457700" y="763031"/>
                          <a:pt x="457698" y="610425"/>
                          <a:pt x="457695" y="457819"/>
                        </a:cubicBezTo>
                        <a:lnTo>
                          <a:pt x="915382" y="455249"/>
                        </a:lnTo>
                        <a:close/>
                      </a:path>
                      <a:path fill="none" w="915389" h="915637">
                        <a:moveTo>
                          <a:pt x="915382" y="455249"/>
                        </a:moveTo>
                        <a:cubicBezTo>
                          <a:pt x="916066" y="577090"/>
                          <a:pt x="868166" y="694178"/>
                          <a:pt x="782287" y="780588"/>
                        </a:cubicBezTo>
                        <a:cubicBezTo>
                          <a:pt x="696378" y="867029"/>
                          <a:pt x="579556" y="915635"/>
                          <a:pt x="457703" y="915637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205"/>
                <p:cNvGrpSpPr/>
                <p:nvPr/>
              </p:nvGrpSpPr>
              <p:grpSpPr>
                <a:xfrm>
                  <a:off x="1766160" y="5943240"/>
                  <a:ext cx="2153520" cy="636840"/>
                  <a:chOff x="1766160" y="5943240"/>
                  <a:chExt cx="2153520" cy="636840"/>
                </a:xfrm>
              </p:grpSpPr>
              <p:grpSp>
                <p:nvGrpSpPr>
                  <p:cNvPr id="592" name="Group 59"/>
                  <p:cNvGrpSpPr/>
                  <p:nvPr/>
                </p:nvGrpSpPr>
                <p:grpSpPr>
                  <a:xfrm>
                    <a:off x="1766160" y="6016320"/>
                    <a:ext cx="2153520" cy="563760"/>
                    <a:chOff x="1766160" y="6016320"/>
                    <a:chExt cx="2153520" cy="563760"/>
                  </a:xfrm>
                </p:grpSpPr>
                <p:sp>
                  <p:nvSpPr>
                    <p:cNvPr id="593" name="Rectangle 298"/>
                    <p:cNvSpPr/>
                    <p:nvPr/>
                  </p:nvSpPr>
                  <p:spPr>
                    <a:xfrm>
                      <a:off x="1923840" y="6497640"/>
                      <a:ext cx="1811520" cy="82440"/>
                    </a:xfrm>
                    <a:prstGeom prst="rect">
                      <a:avLst/>
                    </a:prstGeom>
                    <a:solidFill>
                      <a:srgbClr val="ffc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4" name="Group 7"/>
                    <p:cNvGrpSpPr/>
                    <p:nvPr/>
                  </p:nvGrpSpPr>
                  <p:grpSpPr>
                    <a:xfrm>
                      <a:off x="1871280" y="6023160"/>
                      <a:ext cx="366480" cy="484560"/>
                      <a:chOff x="1871280" y="6023160"/>
                      <a:chExt cx="366480" cy="484560"/>
                    </a:xfrm>
                  </p:grpSpPr>
                  <p:sp>
                    <p:nvSpPr>
                      <p:cNvPr id="595" name="Freeform 8"/>
                      <p:cNvSpPr/>
                      <p:nvPr/>
                    </p:nvSpPr>
                    <p:spPr>
                      <a:xfrm rot="18135600">
                        <a:off x="1881720" y="6118560"/>
                        <a:ext cx="34524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Oval 9"/>
                      <p:cNvSpPr/>
                      <p:nvPr/>
                    </p:nvSpPr>
                    <p:spPr>
                      <a:xfrm rot="18135600">
                        <a:off x="2028600" y="6422040"/>
                        <a:ext cx="72720" cy="71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7" name="Group 10"/>
                    <p:cNvGrpSpPr/>
                    <p:nvPr/>
                  </p:nvGrpSpPr>
                  <p:grpSpPr>
                    <a:xfrm>
                      <a:off x="1766160" y="6023160"/>
                      <a:ext cx="372600" cy="486720"/>
                      <a:chOff x="1766160" y="6023160"/>
                      <a:chExt cx="372600" cy="486720"/>
                    </a:xfrm>
                  </p:grpSpPr>
                  <p:sp>
                    <p:nvSpPr>
                      <p:cNvPr id="598" name="Freeform 11"/>
                      <p:cNvSpPr/>
                      <p:nvPr/>
                    </p:nvSpPr>
                    <p:spPr>
                      <a:xfrm rot="18135600">
                        <a:off x="1778760" y="6118200"/>
                        <a:ext cx="347040" cy="22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Oval 12"/>
                      <p:cNvSpPr/>
                      <p:nvPr/>
                    </p:nvSpPr>
                    <p:spPr>
                      <a:xfrm rot="18135600">
                        <a:off x="1926000" y="6422040"/>
                        <a:ext cx="72720" cy="741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0" name="Group 13"/>
                    <p:cNvGrpSpPr/>
                    <p:nvPr/>
                  </p:nvGrpSpPr>
                  <p:grpSpPr>
                    <a:xfrm>
                      <a:off x="1980360" y="6024960"/>
                      <a:ext cx="408240" cy="484560"/>
                      <a:chOff x="1980360" y="6024960"/>
                      <a:chExt cx="408240" cy="484560"/>
                    </a:xfrm>
                  </p:grpSpPr>
                  <p:sp>
                    <p:nvSpPr>
                      <p:cNvPr id="601" name="Freeform 14"/>
                      <p:cNvSpPr/>
                      <p:nvPr/>
                    </p:nvSpPr>
                    <p:spPr>
                      <a:xfrm rot="18135600">
                        <a:off x="2004840" y="6116400"/>
                        <a:ext cx="358560" cy="25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Oval 15"/>
                      <p:cNvSpPr/>
                      <p:nvPr/>
                    </p:nvSpPr>
                    <p:spPr>
                      <a:xfrm rot="18135600">
                        <a:off x="2134080" y="6416280"/>
                        <a:ext cx="74520" cy="802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3" name="Group 16"/>
                    <p:cNvGrpSpPr/>
                    <p:nvPr/>
                  </p:nvGrpSpPr>
                  <p:grpSpPr>
                    <a:xfrm>
                      <a:off x="2100240" y="6024960"/>
                      <a:ext cx="358560" cy="487440"/>
                      <a:chOff x="2100240" y="6024960"/>
                      <a:chExt cx="358560" cy="487440"/>
                    </a:xfrm>
                  </p:grpSpPr>
                  <p:sp>
                    <p:nvSpPr>
                      <p:cNvPr id="604" name="Freeform 17"/>
                      <p:cNvSpPr/>
                      <p:nvPr/>
                    </p:nvSpPr>
                    <p:spPr>
                      <a:xfrm rot="18135600">
                        <a:off x="2112120" y="6116760"/>
                        <a:ext cx="334800" cy="21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" name="Oval 18"/>
                      <p:cNvSpPr/>
                      <p:nvPr/>
                    </p:nvSpPr>
                    <p:spPr>
                      <a:xfrm rot="18135600">
                        <a:off x="2250720" y="6431760"/>
                        <a:ext cx="68040" cy="673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6" name="Group 19"/>
                    <p:cNvGrpSpPr/>
                    <p:nvPr/>
                  </p:nvGrpSpPr>
                  <p:grpSpPr>
                    <a:xfrm>
                      <a:off x="2208960" y="6026040"/>
                      <a:ext cx="371160" cy="481680"/>
                      <a:chOff x="2208960" y="6026040"/>
                      <a:chExt cx="371160" cy="481680"/>
                    </a:xfrm>
                  </p:grpSpPr>
                  <p:sp>
                    <p:nvSpPr>
                      <p:cNvPr id="607" name="Freeform 20"/>
                      <p:cNvSpPr/>
                      <p:nvPr/>
                    </p:nvSpPr>
                    <p:spPr>
                      <a:xfrm rot="18135600">
                        <a:off x="2226960" y="6114600"/>
                        <a:ext cx="335160" cy="22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Oval 341"/>
                      <p:cNvSpPr/>
                      <p:nvPr/>
                    </p:nvSpPr>
                    <p:spPr>
                      <a:xfrm rot="18135600">
                        <a:off x="2360520" y="6419520"/>
                        <a:ext cx="70920" cy="75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9" name="Group 22"/>
                    <p:cNvGrpSpPr/>
                    <p:nvPr/>
                  </p:nvGrpSpPr>
                  <p:grpSpPr>
                    <a:xfrm>
                      <a:off x="2970360" y="6022800"/>
                      <a:ext cx="375120" cy="488160"/>
                      <a:chOff x="2970360" y="6022800"/>
                      <a:chExt cx="375120" cy="488160"/>
                    </a:xfrm>
                  </p:grpSpPr>
                  <p:sp>
                    <p:nvSpPr>
                      <p:cNvPr id="610" name="Freeform 338"/>
                      <p:cNvSpPr/>
                      <p:nvPr/>
                    </p:nvSpPr>
                    <p:spPr>
                      <a:xfrm rot="18135600">
                        <a:off x="2982240" y="6118920"/>
                        <a:ext cx="351000" cy="22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Oval 339"/>
                      <p:cNvSpPr/>
                      <p:nvPr/>
                    </p:nvSpPr>
                    <p:spPr>
                      <a:xfrm rot="18135600">
                        <a:off x="3125160" y="6419880"/>
                        <a:ext cx="73800" cy="777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25"/>
                    <p:cNvGrpSpPr/>
                    <p:nvPr/>
                  </p:nvGrpSpPr>
                  <p:grpSpPr>
                    <a:xfrm>
                      <a:off x="2418120" y="6022440"/>
                      <a:ext cx="374040" cy="481320"/>
                      <a:chOff x="2418120" y="6022440"/>
                      <a:chExt cx="374040" cy="481320"/>
                    </a:xfrm>
                  </p:grpSpPr>
                  <p:sp>
                    <p:nvSpPr>
                      <p:cNvPr id="613" name="Freeform 336"/>
                      <p:cNvSpPr/>
                      <p:nvPr/>
                    </p:nvSpPr>
                    <p:spPr>
                      <a:xfrm rot="18135600">
                        <a:off x="2426400" y="6122520"/>
                        <a:ext cx="35712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Oval 337"/>
                      <p:cNvSpPr/>
                      <p:nvPr/>
                    </p:nvSpPr>
                    <p:spPr>
                      <a:xfrm rot="18135600">
                        <a:off x="2576520" y="6418800"/>
                        <a:ext cx="69840" cy="723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5" name="Group 28"/>
                    <p:cNvGrpSpPr/>
                    <p:nvPr/>
                  </p:nvGrpSpPr>
                  <p:grpSpPr>
                    <a:xfrm>
                      <a:off x="2534400" y="6020640"/>
                      <a:ext cx="379800" cy="482760"/>
                      <a:chOff x="2534400" y="6020640"/>
                      <a:chExt cx="379800" cy="482760"/>
                    </a:xfrm>
                  </p:grpSpPr>
                  <p:sp>
                    <p:nvSpPr>
                      <p:cNvPr id="616" name="Freeform 334"/>
                      <p:cNvSpPr/>
                      <p:nvPr/>
                    </p:nvSpPr>
                    <p:spPr>
                      <a:xfrm rot="18135600">
                        <a:off x="2551680" y="6112080"/>
                        <a:ext cx="3445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Oval 335"/>
                      <p:cNvSpPr/>
                      <p:nvPr/>
                    </p:nvSpPr>
                    <p:spPr>
                      <a:xfrm rot="18135600">
                        <a:off x="2687760" y="6418080"/>
                        <a:ext cx="78120" cy="680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31"/>
                    <p:cNvGrpSpPr/>
                    <p:nvPr/>
                  </p:nvGrpSpPr>
                  <p:grpSpPr>
                    <a:xfrm>
                      <a:off x="2647800" y="6021360"/>
                      <a:ext cx="378000" cy="486720"/>
                      <a:chOff x="2647800" y="6021360"/>
                      <a:chExt cx="378000" cy="486720"/>
                    </a:xfrm>
                  </p:grpSpPr>
                  <p:sp>
                    <p:nvSpPr>
                      <p:cNvPr id="619" name="Freeform 332"/>
                      <p:cNvSpPr/>
                      <p:nvPr/>
                    </p:nvSpPr>
                    <p:spPr>
                      <a:xfrm rot="18135600">
                        <a:off x="2668320" y="6108840"/>
                        <a:ext cx="33660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Oval 333"/>
                      <p:cNvSpPr/>
                      <p:nvPr/>
                    </p:nvSpPr>
                    <p:spPr>
                      <a:xfrm rot="18135600">
                        <a:off x="2793960" y="6416640"/>
                        <a:ext cx="69120" cy="80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1" name="Group 34"/>
                    <p:cNvGrpSpPr/>
                    <p:nvPr/>
                  </p:nvGrpSpPr>
                  <p:grpSpPr>
                    <a:xfrm>
                      <a:off x="2748960" y="6024960"/>
                      <a:ext cx="408240" cy="484560"/>
                      <a:chOff x="2748960" y="6024960"/>
                      <a:chExt cx="408240" cy="484560"/>
                    </a:xfrm>
                  </p:grpSpPr>
                  <p:sp>
                    <p:nvSpPr>
                      <p:cNvPr id="622" name="Freeform 330"/>
                      <p:cNvSpPr/>
                      <p:nvPr/>
                    </p:nvSpPr>
                    <p:spPr>
                      <a:xfrm rot="18135600">
                        <a:off x="2773440" y="6116400"/>
                        <a:ext cx="358560" cy="25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Oval 331"/>
                      <p:cNvSpPr/>
                      <p:nvPr/>
                    </p:nvSpPr>
                    <p:spPr>
                      <a:xfrm rot="18135600">
                        <a:off x="2902680" y="6416280"/>
                        <a:ext cx="74520" cy="802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4" name="Group 37"/>
                    <p:cNvGrpSpPr/>
                    <p:nvPr/>
                  </p:nvGrpSpPr>
                  <p:grpSpPr>
                    <a:xfrm>
                      <a:off x="2864520" y="6018120"/>
                      <a:ext cx="361440" cy="494280"/>
                      <a:chOff x="2864520" y="6018120"/>
                      <a:chExt cx="361440" cy="494280"/>
                    </a:xfrm>
                  </p:grpSpPr>
                  <p:sp>
                    <p:nvSpPr>
                      <p:cNvPr id="625" name="Freeform 328"/>
                      <p:cNvSpPr/>
                      <p:nvPr/>
                    </p:nvSpPr>
                    <p:spPr>
                      <a:xfrm rot="18135600">
                        <a:off x="2873160" y="6114600"/>
                        <a:ext cx="343800" cy="21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Oval 329"/>
                      <p:cNvSpPr/>
                      <p:nvPr/>
                    </p:nvSpPr>
                    <p:spPr>
                      <a:xfrm rot="18135600">
                        <a:off x="3021480" y="6430320"/>
                        <a:ext cx="70920" cy="676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7" name="Group 310"/>
                    <p:cNvGrpSpPr/>
                    <p:nvPr/>
                  </p:nvGrpSpPr>
                  <p:grpSpPr>
                    <a:xfrm>
                      <a:off x="3298320" y="6020640"/>
                      <a:ext cx="367920" cy="492120"/>
                      <a:chOff x="3298320" y="6020640"/>
                      <a:chExt cx="367920" cy="492120"/>
                    </a:xfrm>
                  </p:grpSpPr>
                  <p:sp>
                    <p:nvSpPr>
                      <p:cNvPr id="628" name="Freeform 326"/>
                      <p:cNvSpPr/>
                      <p:nvPr/>
                    </p:nvSpPr>
                    <p:spPr>
                      <a:xfrm rot="18135600">
                        <a:off x="3304800" y="6121080"/>
                        <a:ext cx="354240" cy="21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Oval 327"/>
                      <p:cNvSpPr/>
                      <p:nvPr/>
                    </p:nvSpPr>
                    <p:spPr>
                      <a:xfrm rot="18135600">
                        <a:off x="3461040" y="6430680"/>
                        <a:ext cx="71640" cy="676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0" name="Group 43"/>
                    <p:cNvGrpSpPr/>
                    <p:nvPr/>
                  </p:nvGrpSpPr>
                  <p:grpSpPr>
                    <a:xfrm>
                      <a:off x="3192480" y="6024600"/>
                      <a:ext cx="380520" cy="479520"/>
                      <a:chOff x="3192480" y="6024600"/>
                      <a:chExt cx="380520" cy="479520"/>
                    </a:xfrm>
                  </p:grpSpPr>
                  <p:sp>
                    <p:nvSpPr>
                      <p:cNvPr id="631" name="Freeform 324"/>
                      <p:cNvSpPr/>
                      <p:nvPr/>
                    </p:nvSpPr>
                    <p:spPr>
                      <a:xfrm rot="18135600">
                        <a:off x="3210120" y="6116400"/>
                        <a:ext cx="345240" cy="23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Oval 325"/>
                      <p:cNvSpPr/>
                      <p:nvPr/>
                    </p:nvSpPr>
                    <p:spPr>
                      <a:xfrm rot="18135600">
                        <a:off x="3346200" y="6414840"/>
                        <a:ext cx="74520" cy="748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3" name="Group 46"/>
                    <p:cNvGrpSpPr/>
                    <p:nvPr/>
                  </p:nvGrpSpPr>
                  <p:grpSpPr>
                    <a:xfrm>
                      <a:off x="2297160" y="6023160"/>
                      <a:ext cx="397440" cy="491040"/>
                      <a:chOff x="2297160" y="6023160"/>
                      <a:chExt cx="397440" cy="491040"/>
                    </a:xfrm>
                  </p:grpSpPr>
                  <p:sp>
                    <p:nvSpPr>
                      <p:cNvPr id="634" name="Freeform 322"/>
                      <p:cNvSpPr/>
                      <p:nvPr/>
                    </p:nvSpPr>
                    <p:spPr>
                      <a:xfrm rot="18135600">
                        <a:off x="2309760" y="6125400"/>
                        <a:ext cx="372240" cy="23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Oval 323"/>
                      <p:cNvSpPr/>
                      <p:nvPr/>
                    </p:nvSpPr>
                    <p:spPr>
                      <a:xfrm rot="18135600">
                        <a:off x="2465280" y="6419880"/>
                        <a:ext cx="78480" cy="799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6" name="Group 49"/>
                    <p:cNvGrpSpPr/>
                    <p:nvPr/>
                  </p:nvGrpSpPr>
                  <p:grpSpPr>
                    <a:xfrm>
                      <a:off x="3085920" y="6016320"/>
                      <a:ext cx="370800" cy="494280"/>
                      <a:chOff x="3085920" y="6016320"/>
                      <a:chExt cx="370800" cy="494280"/>
                    </a:xfrm>
                  </p:grpSpPr>
                  <p:sp>
                    <p:nvSpPr>
                      <p:cNvPr id="637" name="Freeform 32"/>
                      <p:cNvSpPr/>
                      <p:nvPr/>
                    </p:nvSpPr>
                    <p:spPr>
                      <a:xfrm rot="18135600">
                        <a:off x="3099240" y="6109920"/>
                        <a:ext cx="343800" cy="22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Oval 321"/>
                      <p:cNvSpPr/>
                      <p:nvPr/>
                    </p:nvSpPr>
                    <p:spPr>
                      <a:xfrm rot="18135600">
                        <a:off x="3238200" y="6423120"/>
                        <a:ext cx="72720" cy="738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9" name="Group 52"/>
                    <p:cNvGrpSpPr/>
                    <p:nvPr/>
                  </p:nvGrpSpPr>
                  <p:grpSpPr>
                    <a:xfrm>
                      <a:off x="3422520" y="6020280"/>
                      <a:ext cx="348840" cy="487080"/>
                      <a:chOff x="3422520" y="6020280"/>
                      <a:chExt cx="348840" cy="487080"/>
                    </a:xfrm>
                  </p:grpSpPr>
                  <p:sp>
                    <p:nvSpPr>
                      <p:cNvPr id="640" name="Freeform 30"/>
                      <p:cNvSpPr/>
                      <p:nvPr/>
                    </p:nvSpPr>
                    <p:spPr>
                      <a:xfrm rot="18135600">
                        <a:off x="3434040" y="6109200"/>
                        <a:ext cx="325440" cy="20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Oval 31"/>
                      <p:cNvSpPr/>
                      <p:nvPr/>
                    </p:nvSpPr>
                    <p:spPr>
                      <a:xfrm rot="18135600">
                        <a:off x="3567600" y="6428160"/>
                        <a:ext cx="69840" cy="648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2" name="Group 55"/>
                    <p:cNvGrpSpPr/>
                    <p:nvPr/>
                  </p:nvGrpSpPr>
                  <p:grpSpPr>
                    <a:xfrm>
                      <a:off x="3503520" y="6019920"/>
                      <a:ext cx="416160" cy="491760"/>
                      <a:chOff x="3503520" y="6019920"/>
                      <a:chExt cx="416160" cy="491760"/>
                    </a:xfrm>
                  </p:grpSpPr>
                  <p:sp>
                    <p:nvSpPr>
                      <p:cNvPr id="643" name="Freeform 28"/>
                      <p:cNvSpPr/>
                      <p:nvPr/>
                    </p:nvSpPr>
                    <p:spPr>
                      <a:xfrm rot="18135600">
                        <a:off x="3519720" y="6123600"/>
                        <a:ext cx="383040" cy="25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9403" h="839273">
                            <a:moveTo>
                              <a:pt x="0" y="839273"/>
                            </a:moveTo>
                            <a:cubicBezTo>
                              <a:pt x="23611" y="723363"/>
                              <a:pt x="47223" y="607453"/>
                              <a:pt x="103031" y="568816"/>
                            </a:cubicBezTo>
                            <a:cubicBezTo>
                              <a:pt x="158839" y="530179"/>
                              <a:pt x="281189" y="639650"/>
                              <a:pt x="334851" y="607453"/>
                            </a:cubicBezTo>
                            <a:cubicBezTo>
                              <a:pt x="388513" y="575256"/>
                              <a:pt x="364902" y="403537"/>
                              <a:pt x="425003" y="375633"/>
                            </a:cubicBezTo>
                            <a:cubicBezTo>
                              <a:pt x="485104" y="347729"/>
                              <a:pt x="637504" y="474372"/>
                              <a:pt x="695459" y="440028"/>
                            </a:cubicBezTo>
                            <a:cubicBezTo>
                              <a:pt x="753414" y="405684"/>
                              <a:pt x="710484" y="199622"/>
                              <a:pt x="772732" y="169571"/>
                            </a:cubicBezTo>
                            <a:cubicBezTo>
                              <a:pt x="834980" y="139520"/>
                              <a:pt x="1006698" y="283334"/>
                              <a:pt x="1068946" y="259723"/>
                            </a:cubicBezTo>
                            <a:cubicBezTo>
                              <a:pt x="1131194" y="236112"/>
                              <a:pt x="1101144" y="55808"/>
                              <a:pt x="1146220" y="27904"/>
                            </a:cubicBezTo>
                            <a:cubicBezTo>
                              <a:pt x="1191296" y="0"/>
                              <a:pt x="1311499" y="79419"/>
                              <a:pt x="1339403" y="92298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Oval 29"/>
                      <p:cNvSpPr/>
                      <p:nvPr/>
                    </p:nvSpPr>
                    <p:spPr>
                      <a:xfrm rot="18135600">
                        <a:off x="3677760" y="6419520"/>
                        <a:ext cx="70920" cy="806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45" name="Group 72"/>
                  <p:cNvGrpSpPr/>
                  <p:nvPr/>
                </p:nvGrpSpPr>
                <p:grpSpPr>
                  <a:xfrm>
                    <a:off x="2338560" y="5947920"/>
                    <a:ext cx="139320" cy="82440"/>
                    <a:chOff x="2338560" y="5947920"/>
                    <a:chExt cx="139320" cy="82440"/>
                  </a:xfrm>
                </p:grpSpPr>
                <p:sp>
                  <p:nvSpPr>
                    <p:cNvPr id="646" name="Straight Connector 296"/>
                    <p:cNvSpPr/>
                    <p:nvPr/>
                  </p:nvSpPr>
                  <p:spPr>
                    <a:xfrm flipH="1" flipV="1">
                      <a:off x="2338560" y="5947920"/>
                      <a:ext cx="651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Straight Connector 297"/>
                    <p:cNvSpPr/>
                    <p:nvPr/>
                  </p:nvSpPr>
                  <p:spPr>
                    <a:xfrm flipV="1">
                      <a:off x="2403360" y="594792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Group 73"/>
                  <p:cNvGrpSpPr/>
                  <p:nvPr/>
                </p:nvGrpSpPr>
                <p:grpSpPr>
                  <a:xfrm>
                    <a:off x="2774880" y="5943240"/>
                    <a:ext cx="139320" cy="82440"/>
                    <a:chOff x="2774880" y="5943240"/>
                    <a:chExt cx="139320" cy="82440"/>
                  </a:xfrm>
                </p:grpSpPr>
                <p:sp>
                  <p:nvSpPr>
                    <p:cNvPr id="649" name="Straight Connector 294"/>
                    <p:cNvSpPr/>
                    <p:nvPr/>
                  </p:nvSpPr>
                  <p:spPr>
                    <a:xfrm flipH="1" flipV="1">
                      <a:off x="2774880" y="5943240"/>
                      <a:ext cx="651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Straight Connector 295"/>
                    <p:cNvSpPr/>
                    <p:nvPr/>
                  </p:nvSpPr>
                  <p:spPr>
                    <a:xfrm flipV="1">
                      <a:off x="2839680" y="594324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76"/>
                  <p:cNvGrpSpPr/>
                  <p:nvPr/>
                </p:nvGrpSpPr>
                <p:grpSpPr>
                  <a:xfrm>
                    <a:off x="2994480" y="5947920"/>
                    <a:ext cx="137160" cy="82440"/>
                    <a:chOff x="2994480" y="5947920"/>
                    <a:chExt cx="137160" cy="82440"/>
                  </a:xfrm>
                </p:grpSpPr>
                <p:sp>
                  <p:nvSpPr>
                    <p:cNvPr id="652" name="Straight Connector 292"/>
                    <p:cNvSpPr/>
                    <p:nvPr/>
                  </p:nvSpPr>
                  <p:spPr>
                    <a:xfrm flipH="1" flipV="1">
                      <a:off x="2994480" y="5947920"/>
                      <a:ext cx="633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Straight Connector 293"/>
                    <p:cNvSpPr/>
                    <p:nvPr/>
                  </p:nvSpPr>
                  <p:spPr>
                    <a:xfrm flipV="1">
                      <a:off x="3057120" y="594792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Group 79"/>
                  <p:cNvGrpSpPr/>
                  <p:nvPr/>
                </p:nvGrpSpPr>
                <p:grpSpPr>
                  <a:xfrm>
                    <a:off x="3540240" y="5943240"/>
                    <a:ext cx="139320" cy="82440"/>
                    <a:chOff x="3540240" y="5943240"/>
                    <a:chExt cx="139320" cy="82440"/>
                  </a:xfrm>
                </p:grpSpPr>
                <p:sp>
                  <p:nvSpPr>
                    <p:cNvPr id="655" name="Straight Connector 290"/>
                    <p:cNvSpPr/>
                    <p:nvPr/>
                  </p:nvSpPr>
                  <p:spPr>
                    <a:xfrm flipH="1" flipV="1">
                      <a:off x="3540240" y="5943240"/>
                      <a:ext cx="6516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Straight Connector 291"/>
                    <p:cNvSpPr/>
                    <p:nvPr/>
                  </p:nvSpPr>
                  <p:spPr>
                    <a:xfrm flipV="1">
                      <a:off x="3605040" y="5943240"/>
                      <a:ext cx="74520" cy="82440"/>
                    </a:xfrm>
                    <a:prstGeom prst="line">
                      <a:avLst/>
                    </a:prstGeom>
                    <a:ln cap="sq" w="25560">
                      <a:solidFill>
                        <a:srgbClr val="0000cc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cxnSp>
            <p:nvCxnSpPr>
              <p:cNvPr id="657" name="Straight Arrow Connector 278"/>
              <p:cNvCxnSpPr/>
              <p:nvPr/>
            </p:nvCxnSpPr>
            <p:spPr>
              <a:xfrm flipH="1">
                <a:off x="2841480" y="4281120"/>
                <a:ext cx="2160" cy="284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58" name="Straight Arrow Connector 279"/>
              <p:cNvCxnSpPr/>
              <p:nvPr/>
            </p:nvCxnSpPr>
            <p:spPr>
              <a:xfrm flipH="1">
                <a:off x="2841480" y="5532480"/>
                <a:ext cx="2160" cy="282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659" name="TextBox 279"/>
              <p:cNvSpPr/>
              <p:nvPr/>
            </p:nvSpPr>
            <p:spPr>
              <a:xfrm>
                <a:off x="268560" y="3432600"/>
                <a:ext cx="1119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Tioles en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solució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TextBox 280"/>
              <p:cNvSpPr/>
              <p:nvPr/>
            </p:nvSpPr>
            <p:spPr>
              <a:xfrm>
                <a:off x="196200" y="4803480"/>
                <a:ext cx="12643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Adsorpció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Box 281"/>
              <p:cNvSpPr/>
              <p:nvPr/>
            </p:nvSpPr>
            <p:spPr>
              <a:xfrm>
                <a:off x="502920" y="6024960"/>
                <a:ext cx="6501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SA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62" name="Curved Connector 274"/>
            <p:cNvCxnSpPr/>
            <p:nvPr/>
          </p:nvCxnSpPr>
          <p:spPr>
            <a:xfrm flipV="1">
              <a:off x="3830760" y="4960080"/>
              <a:ext cx="1458000" cy="1259640"/>
            </a:xfrm>
            <a:prstGeom prst="curvedConnector5">
              <a:avLst>
                <a:gd name="adj1" fmla="val 49987"/>
                <a:gd name="adj2" fmla="val 50000"/>
                <a:gd name="adj3" fmla="val 49987"/>
              </a:avLst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663" name="TextBox 12"/>
          <p:cNvSpPr/>
          <p:nvPr/>
        </p:nvSpPr>
        <p:spPr>
          <a:xfrm>
            <a:off x="7238880" y="60199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7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57800" cy="42084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-533520" y="-76320"/>
            <a:ext cx="929664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o-Ensamblaje Fí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ste ejemplo, un campo eléctrico aplicado hace que los nanotubos de carbono, que son conductores, se levanten de la melcocha (slurry) que los cont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1522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notubos de carbón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rdenados en posición vertical por el campo eléctri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5"/>
          <p:cNvSpPr/>
          <p:nvPr/>
        </p:nvSpPr>
        <p:spPr>
          <a:xfrm>
            <a:off x="1828800" y="27432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1219320" y="609588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tical alignment of printed carbon nanotubes by multiple field emission cycles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ng C. Kim, K. H. Sohn, Y. M. Cho, and Eun H. Yoo. Volume 84, issue 26. page 5351. ©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04 American Institute of Phy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uto Ensamblaje Biológico</a:t>
            </a:r>
            <a:br>
              <a:rPr sz="4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ejemplo, el ADN se usa para enlazar nanopartículas de 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3519000" y="6324480"/>
            <a:ext cx="231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d Mirkin (Northwestern Univers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2209680" y="6610320"/>
            <a:ext cx="5181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"/>
          <p:cNvPicPr/>
          <p:nvPr/>
        </p:nvPicPr>
        <p:blipFill>
          <a:blip r:embed="rId1"/>
          <a:stretch/>
        </p:blipFill>
        <p:spPr>
          <a:xfrm>
            <a:off x="1390680" y="1447920"/>
            <a:ext cx="636264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mos terminado la discusión de dos procesos utilizados en la nanofabricación de abajo hacia arriba: </a:t>
            </a: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</a:rPr>
              <a:t>fabricación de bloques de construcción</a:t>
            </a: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800" spc="-1" strike="noStrike" u="sng">
                <a:solidFill>
                  <a:srgbClr val="0000cc"/>
                </a:solidFill>
                <a:uFillTx/>
                <a:latin typeface="Arial"/>
              </a:rPr>
              <a:t>auto-ensamblaj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ahora un ejemplo de una secuencia donde estos pasos se utilizan para crear una nanoestructu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ntestación a la pregunta, para que se podrán utilizar estas estructuras está en la mente y en la imaginación de la persona que diseña la secuencia de nanofabricación de abajo hacia arri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-152280" y="152280"/>
            <a:ext cx="94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00"/>
                </a:solidFill>
                <a:latin typeface="Arial"/>
              </a:rPr>
              <a:t>Un Ejemplo de una secuencia de nanofabricación de abajo hacia arrib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3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3886200" y="3962520"/>
            <a:ext cx="990720" cy="1523880"/>
            <a:chOff x="3886200" y="3962520"/>
            <a:chExt cx="990720" cy="1523880"/>
          </a:xfrm>
        </p:grpSpPr>
        <p:sp>
          <p:nvSpPr>
            <p:cNvPr id="682" name="Line 5"/>
            <p:cNvSpPr/>
            <p:nvPr/>
          </p:nvSpPr>
          <p:spPr>
            <a:xfrm>
              <a:off x="3962520" y="39625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6"/>
            <p:cNvSpPr/>
            <p:nvPr/>
          </p:nvSpPr>
          <p:spPr>
            <a:xfrm flipH="1">
              <a:off x="4647960" y="39625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7"/>
            <p:cNvSpPr/>
            <p:nvPr/>
          </p:nvSpPr>
          <p:spPr>
            <a:xfrm>
              <a:off x="4648320" y="51055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8"/>
            <p:cNvSpPr/>
            <p:nvPr/>
          </p:nvSpPr>
          <p:spPr>
            <a:xfrm flipV="1">
              <a:off x="3886200" y="510552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9"/>
          <p:cNvGrpSpPr/>
          <p:nvPr/>
        </p:nvGrpSpPr>
        <p:grpSpPr>
          <a:xfrm>
            <a:off x="3505320" y="3580920"/>
            <a:ext cx="1752480" cy="2362680"/>
            <a:chOff x="3505320" y="3580920"/>
            <a:chExt cx="1752480" cy="2362680"/>
          </a:xfrm>
        </p:grpSpPr>
        <p:sp>
          <p:nvSpPr>
            <p:cNvPr id="687" name="Line 10"/>
            <p:cNvSpPr/>
            <p:nvPr/>
          </p:nvSpPr>
          <p:spPr>
            <a:xfrm flipV="1">
              <a:off x="3962520" y="3580920"/>
              <a:ext cx="759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"/>
            <p:cNvSpPr/>
            <p:nvPr/>
          </p:nvSpPr>
          <p:spPr>
            <a:xfrm>
              <a:off x="3581280" y="3809880"/>
              <a:ext cx="381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2"/>
            <p:cNvSpPr/>
            <p:nvPr/>
          </p:nvSpPr>
          <p:spPr>
            <a:xfrm flipV="1">
              <a:off x="4876920" y="358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3"/>
            <p:cNvSpPr/>
            <p:nvPr/>
          </p:nvSpPr>
          <p:spPr>
            <a:xfrm flipV="1">
              <a:off x="4876920" y="373356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4"/>
            <p:cNvSpPr/>
            <p:nvPr/>
          </p:nvSpPr>
          <p:spPr>
            <a:xfrm>
              <a:off x="4876920" y="54864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5"/>
            <p:cNvSpPr/>
            <p:nvPr/>
          </p:nvSpPr>
          <p:spPr>
            <a:xfrm flipV="1">
              <a:off x="48769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 flipV="1">
              <a:off x="3505320" y="5486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7"/>
            <p:cNvSpPr/>
            <p:nvPr/>
          </p:nvSpPr>
          <p:spPr>
            <a:xfrm flipV="1">
              <a:off x="38862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18"/>
          <p:cNvSpPr/>
          <p:nvPr/>
        </p:nvSpPr>
        <p:spPr>
          <a:xfrm>
            <a:off x="2237040" y="160020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onalización de 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3116520" y="190512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con Anticuer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3373920" y="220968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ón con Antí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2930400" y="12952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ntesis de Nanopartí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2"/>
          <p:cNvSpPr/>
          <p:nvPr/>
        </p:nvSpPr>
        <p:spPr>
          <a:xfrm>
            <a:off x="4038480" y="44197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3"/>
          <p:cNvSpPr/>
          <p:nvPr/>
        </p:nvSpPr>
        <p:spPr>
          <a:xfrm>
            <a:off x="4114800" y="47242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4"/>
          <p:cNvSpPr/>
          <p:nvPr/>
        </p:nvSpPr>
        <p:spPr>
          <a:xfrm>
            <a:off x="4267080" y="42670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5"/>
          <p:cNvSpPr/>
          <p:nvPr/>
        </p:nvSpPr>
        <p:spPr>
          <a:xfrm>
            <a:off x="4419720" y="4724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26"/>
          <p:cNvSpPr/>
          <p:nvPr/>
        </p:nvSpPr>
        <p:spPr>
          <a:xfrm rot="2111400">
            <a:off x="2895120" y="5562720"/>
            <a:ext cx="1143000" cy="99036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2920 h 990360"/>
              <a:gd name="textAreaBottom" fmla="*/ 6674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7"/>
          <p:cNvSpPr/>
          <p:nvPr/>
        </p:nvSpPr>
        <p:spPr>
          <a:xfrm rot="8747400">
            <a:off x="3047760" y="2895480"/>
            <a:ext cx="1143000" cy="99072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3280 h 990720"/>
              <a:gd name="textAreaBottom" fmla="*/ 667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28"/>
          <p:cNvSpPr/>
          <p:nvPr/>
        </p:nvSpPr>
        <p:spPr>
          <a:xfrm rot="12888600">
            <a:off x="4723920" y="2818800"/>
            <a:ext cx="1143000" cy="99036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2920 h 990360"/>
              <a:gd name="textAreaBottom" fmla="*/ 6674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9"/>
          <p:cNvSpPr/>
          <p:nvPr/>
        </p:nvSpPr>
        <p:spPr>
          <a:xfrm rot="19536600">
            <a:off x="4723920" y="5638320"/>
            <a:ext cx="1143000" cy="990720"/>
          </a:xfrm>
          <a:custGeom>
            <a:avLst/>
            <a:gdLst>
              <a:gd name="textAreaLeft" fmla="*/ 372600 w 1143000"/>
              <a:gd name="textAreaRight" fmla="*/ 770400 w 1143000"/>
              <a:gd name="textAreaTop" fmla="*/ 323280 h 990720"/>
              <a:gd name="textAreaBottom" fmla="*/ 667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046" y="7046"/>
                </a:lnTo>
                <a:lnTo>
                  <a:pt x="10800" y="0"/>
                </a:lnTo>
                <a:lnTo>
                  <a:pt x="14554" y="7046"/>
                </a:lnTo>
                <a:lnTo>
                  <a:pt x="21600" y="10800"/>
                </a:lnTo>
                <a:lnTo>
                  <a:pt x="14554" y="14554"/>
                </a:lnTo>
                <a:lnTo>
                  <a:pt x="10800" y="21600"/>
                </a:lnTo>
                <a:lnTo>
                  <a:pt x="7046" y="145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0"/>
          <p:cNvSpPr/>
          <p:nvPr/>
        </p:nvSpPr>
        <p:spPr>
          <a:xfrm>
            <a:off x="4267080" y="44956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3657600" y="632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CN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609120" y="-36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dos procesos en la nanofabricación de abajo hacia arriba: fabricación de bloques de construcción y 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bloques de construcción que se usan pueden ser: moléculas, partículas (cuentas, cables, tubos), y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métodos de fabricación de bloques de construcción incluyen síntesis molecular, química de coloides, métodos físicos, y deposición química en fase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380880" y="75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clave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rocesos de auto-ensamblaje pueden ser de tipo químico, físico y bi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itografía y el grabado no forman parte del proceso de nanofabricación de abajo hacia arri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nanofabricación de abajo hacia arriba imita la manera en que la naturaleza hace las cosas - comienza pequeño y añ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73656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ste módulo, producido por e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for Nanotechnolog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ducation and Utilization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ennsylvania State University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s uno de una serie desarrollada para introducir la nanotecnología y sus aplicaciones a una amplia audie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ada módulo, sus fichas de componentes visuales y el Glosario de acompañante son derechos autorales (Copyright 2009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ennsylvania State University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dos los derechos están reser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3"/>
          <p:cNvSpPr/>
          <p:nvPr/>
        </p:nvSpPr>
        <p:spPr>
          <a:xfrm>
            <a:off x="2743200" y="6620040"/>
            <a:ext cx="4114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nofabricación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ajo Hacia Arri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ienza con componentes pequeños, por ejemplo,  moléculas individuales y  nanopartículas que después son ensambladas para formar la estructura deseada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Nanofabricación de abajo hacia arriba es como combinar blo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905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bloques de construcción pueden juntarse en algún patrón inherente dictado según la forma o se pueden juntar al 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5334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bloques de construcción pueden ser átom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léculas, o nanopartículas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ad-bearing walls should be anchored with metal tie bars. "/>
          <p:cNvPicPr/>
          <p:nvPr/>
        </p:nvPicPr>
        <p:blipFill>
          <a:blip r:embed="rId1"/>
          <a:stretch/>
        </p:blipFill>
        <p:spPr>
          <a:xfrm>
            <a:off x="3276720" y="365760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76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ercamiento básico a la nanofabricación de Abajo Hacia 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Los pas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rcamientos de Fabricación en Bloques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-ensambl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nanofabricación se puede dividir en dos pasos básic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Fabricación de Bloques de Construcción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se hacen las moléculas, partículas, o capas, los bloques de construcción de la nanofabricación de abajo hacia arri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Ensamblaje</a:t>
            </a:r>
            <a:r>
              <a:rPr b="0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os bloques de construcción en nanoestructuras funcionales.  Este paso se conoce usualmente como </a:t>
            </a:r>
            <a:r>
              <a:rPr b="0" lang="es-ES_tradnl" sz="3200" spc="-1" strike="noStrike" u="sng">
                <a:solidFill>
                  <a:srgbClr val="0000ff"/>
                </a:solidFill>
                <a:uFillTx/>
                <a:latin typeface="Arial"/>
              </a:rPr>
              <a:t>auto-ensamblaj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620040"/>
            <a:ext cx="4419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pyright April 2009 The Pennsylvania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22:12:44Z</dcterms:created>
  <dc:creator>Rehrmann</dc:creator>
  <dc:description/>
  <dc:language>en-US</dc:language>
  <cp:lastModifiedBy>Director</cp:lastModifiedBy>
  <dcterms:modified xsi:type="dcterms:W3CDTF">2013-03-13T16:03:07Z</dcterms:modified>
  <cp:revision>294</cp:revision>
  <dc:subject/>
  <dc:title>Slide 1</dc:title>
</cp:coreProperties>
</file>